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0.gif" ContentType="image/gif"/>
  <Override PartName="/ppt/media/image12.jpeg" ContentType="image/jpeg"/>
  <Override PartName="/ppt/media/image11.jpeg" ContentType="image/jpeg"/>
  <Override PartName="/ppt/media/image9.jpeg" ContentType="image/jpeg"/>
  <Override PartName="/ppt/media/image7.gif" ContentType="image/gif"/>
  <Override PartName="/ppt/media/image6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wmf" ContentType="image/x-wmf"/>
  <Override PartName="/ppt/media/image4.png" ContentType="image/png"/>
  <Override PartName="/ppt/media/image8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4D05-2115-46FA-83A3-1A42980D8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5C6E-7749-4BAD-9E67-373FE24BB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EAE6-DC78-483E-8A3E-C84AB5199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99F6-42B1-4996-9602-ED5ADDC7F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1ABD-90CB-4EA0-AE44-B5BB09D75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5A83-2CE3-4395-AB7A-B848413F1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9CF3-BC49-466E-9A39-1BC35DCAF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0B42-5642-4315-BE27-D3E6E4A94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3000" y="152280"/>
            <a:ext cx="73152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EA0D-C673-4B91-B02E-6B093FB14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5E6D-C2AD-4E89-96F4-4732D476C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DBDD-7827-4888-A103-55C10FA2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93B5-A247-4560-A941-2DD44554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8382240" cy="1141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DF77B-038F-4C93-A372-16DAFCE5A1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98600" y="6172200"/>
            <a:ext cx="8153280" cy="0"/>
          </a:xfrm>
          <a:prstGeom prst="line">
            <a:avLst/>
          </a:prstGeom>
          <a:ln w="25560">
            <a:solidFill>
              <a:srgbClr val="005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194480" y="6251400"/>
            <a:ext cx="3400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"/>
              </a:rPr>
              <a:t>National Alliance for Medical Image Computing </a:t>
            </a:r>
            <a:br>
              <a:rPr sz="1200"/>
            </a:br>
            <a:r>
              <a:rPr b="0" i="1" lang="en-US" sz="1200" spc="-1" strike="noStrike">
                <a:solidFill>
                  <a:srgbClr val="808080"/>
                </a:solidFill>
                <a:latin typeface="Arial"/>
              </a:rPr>
              <a:t>http://na-mic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jpeg"/><Relationship Id="rId3" Type="http://schemas.openxmlformats.org/officeDocument/2006/relationships/image" Target="../media/image9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istration in Slicer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ien Jomi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tware In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09480" y="5410080"/>
            <a:ext cx="210528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200560" y="1979640"/>
            <a:ext cx="3254400" cy="32544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int Histograms: Mono-moda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1238400" y="2003400"/>
            <a:ext cx="3254400" cy="3254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2664000" y="5403960"/>
            <a:ext cx="529920" cy="6159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457200" y="3200400"/>
            <a:ext cx="530280" cy="615960"/>
          </a:xfrm>
          <a:prstGeom prst="rect">
            <a:avLst/>
          </a:prstGeom>
          <a:ln w="0">
            <a:noFill/>
          </a:ln>
        </p:spPr>
      </p:pic>
      <p:grpSp>
        <p:nvGrpSpPr>
          <p:cNvPr id="178" name=""/>
          <p:cNvGrpSpPr/>
          <p:nvPr/>
        </p:nvGrpSpPr>
        <p:grpSpPr>
          <a:xfrm>
            <a:off x="987480" y="1752480"/>
            <a:ext cx="3733560" cy="3733920"/>
            <a:chOff x="987480" y="1752480"/>
            <a:chExt cx="3733560" cy="3733920"/>
          </a:xfrm>
        </p:grpSpPr>
        <p:sp>
          <p:nvSpPr>
            <p:cNvPr id="179" name=""/>
            <p:cNvSpPr/>
            <p:nvPr/>
          </p:nvSpPr>
          <p:spPr>
            <a:xfrm>
              <a:off x="987480" y="5257800"/>
              <a:ext cx="3733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1216080" y="1752480"/>
              <a:ext cx="0" cy="37339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4950000" y="1752480"/>
            <a:ext cx="3733560" cy="3733920"/>
            <a:chOff x="4950000" y="1752480"/>
            <a:chExt cx="3733560" cy="3733920"/>
          </a:xfrm>
        </p:grpSpPr>
        <p:sp>
          <p:nvSpPr>
            <p:cNvPr id="182" name=""/>
            <p:cNvSpPr/>
            <p:nvPr/>
          </p:nvSpPr>
          <p:spPr>
            <a:xfrm>
              <a:off x="4950000" y="5257800"/>
              <a:ext cx="3733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5178600" y="1752480"/>
              <a:ext cx="0" cy="37339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1984320" y="161460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s Alig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86600" y="1600200"/>
            <a:ext cx="297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d by 0 to 20 pix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569760" y="5454720"/>
            <a:ext cx="240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te = zero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ck  = highes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12720" y="5451480"/>
            <a:ext cx="230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alignment caus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194440" y="1981080"/>
            <a:ext cx="3254400" cy="32544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5286600" y="1600200"/>
            <a:ext cx="297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d by 0 to 20 pix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012720" y="5451480"/>
            <a:ext cx="230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alignment caus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219320" y="1981080"/>
            <a:ext cx="3254400" cy="325440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int Histograms: Multi-moda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457200" y="3200400"/>
            <a:ext cx="530280" cy="615960"/>
          </a:xfrm>
          <a:prstGeom prst="rect">
            <a:avLst/>
          </a:prstGeom>
          <a:ln w="0">
            <a:noFill/>
          </a:ln>
        </p:spPr>
      </p:pic>
      <p:grpSp>
        <p:nvGrpSpPr>
          <p:cNvPr id="194" name=""/>
          <p:cNvGrpSpPr/>
          <p:nvPr/>
        </p:nvGrpSpPr>
        <p:grpSpPr>
          <a:xfrm>
            <a:off x="987480" y="1752480"/>
            <a:ext cx="3733560" cy="3733920"/>
            <a:chOff x="987480" y="1752480"/>
            <a:chExt cx="3733560" cy="3733920"/>
          </a:xfrm>
        </p:grpSpPr>
        <p:sp>
          <p:nvSpPr>
            <p:cNvPr id="195" name=""/>
            <p:cNvSpPr/>
            <p:nvPr/>
          </p:nvSpPr>
          <p:spPr>
            <a:xfrm>
              <a:off x="987480" y="5257800"/>
              <a:ext cx="3733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1216080" y="1752480"/>
              <a:ext cx="0" cy="37339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4950000" y="1752480"/>
            <a:ext cx="3733560" cy="3733920"/>
            <a:chOff x="4950000" y="1752480"/>
            <a:chExt cx="3733560" cy="3733920"/>
          </a:xfrm>
        </p:grpSpPr>
        <p:sp>
          <p:nvSpPr>
            <p:cNvPr id="198" name=""/>
            <p:cNvSpPr/>
            <p:nvPr/>
          </p:nvSpPr>
          <p:spPr>
            <a:xfrm>
              <a:off x="4950000" y="5257800"/>
              <a:ext cx="3733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5178600" y="1752480"/>
              <a:ext cx="0" cy="37339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1984320" y="161460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s Alig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2514600" y="5334120"/>
            <a:ext cx="530280" cy="6159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3569760" y="5454720"/>
            <a:ext cx="240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te = zero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ck  = highes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fine Regis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tes Mutual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gram B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tial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lation scal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Rotation and translation are not in the same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ormable Trans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1103400" y="2440080"/>
            <a:ext cx="0" cy="25336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41400" y="4824360"/>
            <a:ext cx="25876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04800" y="2055960"/>
            <a:ext cx="3366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04840" y="5359320"/>
            <a:ext cx="20480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d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741840" y="3411360"/>
            <a:ext cx="154296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5767560" y="2433600"/>
            <a:ext cx="0" cy="253368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05560" y="4818240"/>
            <a:ext cx="258768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026560" y="4967280"/>
            <a:ext cx="333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268960" y="2049480"/>
            <a:ext cx="3366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764320" y="5376960"/>
            <a:ext cx="21668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ing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330720" y="4906800"/>
            <a:ext cx="333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942840" y="2440080"/>
            <a:ext cx="2587680" cy="2533680"/>
            <a:chOff x="942840" y="2440080"/>
            <a:chExt cx="2587680" cy="2533680"/>
          </a:xfrm>
        </p:grpSpPr>
        <p:sp>
          <p:nvSpPr>
            <p:cNvPr id="218" name=""/>
            <p:cNvSpPr/>
            <p:nvPr/>
          </p:nvSpPr>
          <p:spPr>
            <a:xfrm flipV="1">
              <a:off x="1104480" y="2440080"/>
              <a:ext cx="3240" cy="253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942840" y="4823280"/>
              <a:ext cx="2587680" cy="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944280" y="2768400"/>
              <a:ext cx="2452680" cy="1704240"/>
              <a:chOff x="944280" y="2768400"/>
              <a:chExt cx="2452680" cy="1704240"/>
            </a:xfrm>
          </p:grpSpPr>
          <p:sp>
            <p:nvSpPr>
              <p:cNvPr id="221" name=""/>
              <p:cNvSpPr/>
              <p:nvPr/>
            </p:nvSpPr>
            <p:spPr>
              <a:xfrm>
                <a:off x="944280" y="4470120"/>
                <a:ext cx="2450880" cy="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944640" y="4128840"/>
                <a:ext cx="2450880" cy="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945000" y="3789360"/>
                <a:ext cx="2450880" cy="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945360" y="3447720"/>
                <a:ext cx="2450880" cy="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945720" y="3108240"/>
                <a:ext cx="2450880" cy="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46080" y="2768400"/>
                <a:ext cx="2450880" cy="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1452240" y="2575800"/>
              <a:ext cx="1703880" cy="2357640"/>
              <a:chOff x="1452240" y="2575800"/>
              <a:chExt cx="1703880" cy="2357640"/>
            </a:xfrm>
          </p:grpSpPr>
          <p:sp>
            <p:nvSpPr>
              <p:cNvPr id="228" name=""/>
              <p:cNvSpPr/>
              <p:nvPr/>
            </p:nvSpPr>
            <p:spPr>
              <a:xfrm flipH="1">
                <a:off x="1452240" y="2575800"/>
                <a:ext cx="2160" cy="235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>
                <a:off x="1793520" y="2576160"/>
                <a:ext cx="2160" cy="235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2133000" y="2576520"/>
                <a:ext cx="2160" cy="235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2474640" y="2576880"/>
                <a:ext cx="2160" cy="235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>
                <a:off x="2814120" y="2577240"/>
                <a:ext cx="2160" cy="235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3153960" y="2577600"/>
                <a:ext cx="2160" cy="235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4" name=""/>
          <p:cNvSpPr/>
          <p:nvPr/>
        </p:nvSpPr>
        <p:spPr>
          <a:xfrm>
            <a:off x="1103400" y="2768760"/>
            <a:ext cx="1709640" cy="206208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4320" y="2433600"/>
            <a:ext cx="1947600" cy="238284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073400" y="3922560"/>
            <a:ext cx="970200" cy="235080"/>
          </a:xfrm>
          <a:prstGeom prst="rightArrow">
            <a:avLst>
              <a:gd name="adj1" fmla="val 50000"/>
              <a:gd name="adj2" fmla="val 103178"/>
            </a:avLst>
          </a:prstGeom>
          <a:solidFill>
            <a:srgbClr val="00ffff"/>
          </a:solidFill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835280" y="3681360"/>
            <a:ext cx="260280" cy="24120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611760" y="3494160"/>
            <a:ext cx="260640" cy="24120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22480" y="2347920"/>
            <a:ext cx="4616280" cy="1362240"/>
          </a:xfrm>
          <a:custGeom>
            <a:avLst/>
            <a:gdLst/>
            <a:ahLst/>
            <a:rect l="l" t="t" r="r" b="b"/>
            <a:pathLst>
              <a:path w="2908" h="858">
                <a:moveTo>
                  <a:pt x="0" y="858"/>
                </a:moveTo>
                <a:cubicBezTo>
                  <a:pt x="343" y="437"/>
                  <a:pt x="770" y="0"/>
                  <a:pt x="1512" y="22"/>
                </a:cubicBezTo>
                <a:cubicBezTo>
                  <a:pt x="2254" y="44"/>
                  <a:pt x="2476" y="310"/>
                  <a:pt x="2908" y="731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5442120" y="2189160"/>
            <a:ext cx="2876040" cy="2705040"/>
            <a:chOff x="5442120" y="2189160"/>
            <a:chExt cx="2876040" cy="2705040"/>
          </a:xfrm>
        </p:grpSpPr>
        <p:sp>
          <p:nvSpPr>
            <p:cNvPr id="241" name=""/>
            <p:cNvSpPr/>
            <p:nvPr/>
          </p:nvSpPr>
          <p:spPr>
            <a:xfrm>
              <a:off x="5745240" y="2328840"/>
              <a:ext cx="588600" cy="2522520"/>
            </a:xfrm>
            <a:custGeom>
              <a:avLst/>
              <a:gdLst/>
              <a:ahLst/>
              <a:rect l="l" t="t" r="r" b="b"/>
              <a:pathLst>
                <a:path w="371" h="1589">
                  <a:moveTo>
                    <a:pt x="25" y="0"/>
                  </a:moveTo>
                  <a:cubicBezTo>
                    <a:pt x="182" y="146"/>
                    <a:pt x="338" y="281"/>
                    <a:pt x="335" y="468"/>
                  </a:cubicBezTo>
                  <a:cubicBezTo>
                    <a:pt x="332" y="655"/>
                    <a:pt x="0" y="934"/>
                    <a:pt x="6" y="1121"/>
                  </a:cubicBezTo>
                  <a:cubicBezTo>
                    <a:pt x="12" y="1308"/>
                    <a:pt x="295" y="1492"/>
                    <a:pt x="371" y="158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100560" y="2328840"/>
              <a:ext cx="588600" cy="2522520"/>
            </a:xfrm>
            <a:custGeom>
              <a:avLst/>
              <a:gdLst/>
              <a:ahLst/>
              <a:rect l="l" t="t" r="r" b="b"/>
              <a:pathLst>
                <a:path w="371" h="1589">
                  <a:moveTo>
                    <a:pt x="25" y="0"/>
                  </a:moveTo>
                  <a:cubicBezTo>
                    <a:pt x="182" y="146"/>
                    <a:pt x="338" y="281"/>
                    <a:pt x="335" y="468"/>
                  </a:cubicBezTo>
                  <a:cubicBezTo>
                    <a:pt x="332" y="655"/>
                    <a:pt x="0" y="934"/>
                    <a:pt x="6" y="1121"/>
                  </a:cubicBezTo>
                  <a:cubicBezTo>
                    <a:pt x="12" y="1308"/>
                    <a:pt x="295" y="1492"/>
                    <a:pt x="371" y="158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451560" y="2361960"/>
              <a:ext cx="588600" cy="2522520"/>
            </a:xfrm>
            <a:custGeom>
              <a:avLst/>
              <a:gdLst/>
              <a:ahLst/>
              <a:rect l="l" t="t" r="r" b="b"/>
              <a:pathLst>
                <a:path w="371" h="1589">
                  <a:moveTo>
                    <a:pt x="25" y="0"/>
                  </a:moveTo>
                  <a:cubicBezTo>
                    <a:pt x="182" y="146"/>
                    <a:pt x="338" y="281"/>
                    <a:pt x="335" y="468"/>
                  </a:cubicBezTo>
                  <a:cubicBezTo>
                    <a:pt x="332" y="655"/>
                    <a:pt x="0" y="934"/>
                    <a:pt x="6" y="1121"/>
                  </a:cubicBezTo>
                  <a:cubicBezTo>
                    <a:pt x="12" y="1308"/>
                    <a:pt x="295" y="1492"/>
                    <a:pt x="371" y="158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858000" y="2371680"/>
              <a:ext cx="588600" cy="2522520"/>
            </a:xfrm>
            <a:custGeom>
              <a:avLst/>
              <a:gdLst/>
              <a:ahLst/>
              <a:rect l="l" t="t" r="r" b="b"/>
              <a:pathLst>
                <a:path w="371" h="1589">
                  <a:moveTo>
                    <a:pt x="25" y="0"/>
                  </a:moveTo>
                  <a:cubicBezTo>
                    <a:pt x="182" y="146"/>
                    <a:pt x="338" y="281"/>
                    <a:pt x="335" y="468"/>
                  </a:cubicBezTo>
                  <a:cubicBezTo>
                    <a:pt x="332" y="655"/>
                    <a:pt x="0" y="934"/>
                    <a:pt x="6" y="1121"/>
                  </a:cubicBezTo>
                  <a:cubicBezTo>
                    <a:pt x="12" y="1308"/>
                    <a:pt x="295" y="1492"/>
                    <a:pt x="371" y="158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232400" y="2349360"/>
              <a:ext cx="588600" cy="2522520"/>
            </a:xfrm>
            <a:custGeom>
              <a:avLst/>
              <a:gdLst/>
              <a:ahLst/>
              <a:rect l="l" t="t" r="r" b="b"/>
              <a:pathLst>
                <a:path w="371" h="1589">
                  <a:moveTo>
                    <a:pt x="25" y="0"/>
                  </a:moveTo>
                  <a:cubicBezTo>
                    <a:pt x="182" y="146"/>
                    <a:pt x="338" y="281"/>
                    <a:pt x="335" y="468"/>
                  </a:cubicBezTo>
                  <a:cubicBezTo>
                    <a:pt x="332" y="655"/>
                    <a:pt x="0" y="934"/>
                    <a:pt x="6" y="1121"/>
                  </a:cubicBezTo>
                  <a:cubicBezTo>
                    <a:pt x="12" y="1308"/>
                    <a:pt x="295" y="1492"/>
                    <a:pt x="371" y="158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91320" y="2319120"/>
              <a:ext cx="588600" cy="2522520"/>
            </a:xfrm>
            <a:custGeom>
              <a:avLst/>
              <a:gdLst/>
              <a:ahLst/>
              <a:rect l="l" t="t" r="r" b="b"/>
              <a:pathLst>
                <a:path w="371" h="1589">
                  <a:moveTo>
                    <a:pt x="25" y="0"/>
                  </a:moveTo>
                  <a:cubicBezTo>
                    <a:pt x="182" y="146"/>
                    <a:pt x="338" y="281"/>
                    <a:pt x="335" y="468"/>
                  </a:cubicBezTo>
                  <a:cubicBezTo>
                    <a:pt x="332" y="655"/>
                    <a:pt x="0" y="934"/>
                    <a:pt x="6" y="1121"/>
                  </a:cubicBezTo>
                  <a:cubicBezTo>
                    <a:pt x="12" y="1308"/>
                    <a:pt x="295" y="1492"/>
                    <a:pt x="371" y="158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796000" y="4322520"/>
              <a:ext cx="2522160" cy="549360"/>
            </a:xfrm>
            <a:custGeom>
              <a:avLst/>
              <a:gdLst/>
              <a:ahLst/>
              <a:rect l="l" t="t" r="r" b="b"/>
              <a:pathLst>
                <a:path w="1589" h="346">
                  <a:moveTo>
                    <a:pt x="1589" y="0"/>
                  </a:moveTo>
                  <a:cubicBezTo>
                    <a:pt x="1512" y="35"/>
                    <a:pt x="1313" y="172"/>
                    <a:pt x="1125" y="207"/>
                  </a:cubicBezTo>
                  <a:cubicBezTo>
                    <a:pt x="937" y="242"/>
                    <a:pt x="646" y="188"/>
                    <a:pt x="459" y="211"/>
                  </a:cubicBezTo>
                  <a:cubicBezTo>
                    <a:pt x="272" y="234"/>
                    <a:pt x="96" y="318"/>
                    <a:pt x="0" y="34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607000" y="4022640"/>
              <a:ext cx="2522160" cy="549360"/>
            </a:xfrm>
            <a:custGeom>
              <a:avLst/>
              <a:gdLst/>
              <a:ahLst/>
              <a:rect l="l" t="t" r="r" b="b"/>
              <a:pathLst>
                <a:path w="1589" h="346">
                  <a:moveTo>
                    <a:pt x="1589" y="0"/>
                  </a:moveTo>
                  <a:cubicBezTo>
                    <a:pt x="1512" y="35"/>
                    <a:pt x="1313" y="172"/>
                    <a:pt x="1125" y="207"/>
                  </a:cubicBezTo>
                  <a:cubicBezTo>
                    <a:pt x="937" y="242"/>
                    <a:pt x="646" y="188"/>
                    <a:pt x="459" y="211"/>
                  </a:cubicBezTo>
                  <a:cubicBezTo>
                    <a:pt x="272" y="234"/>
                    <a:pt x="96" y="318"/>
                    <a:pt x="0" y="34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442120" y="3674880"/>
              <a:ext cx="2522160" cy="549360"/>
            </a:xfrm>
            <a:custGeom>
              <a:avLst/>
              <a:gdLst/>
              <a:ahLst/>
              <a:rect l="l" t="t" r="r" b="b"/>
              <a:pathLst>
                <a:path w="1589" h="346">
                  <a:moveTo>
                    <a:pt x="1589" y="0"/>
                  </a:moveTo>
                  <a:cubicBezTo>
                    <a:pt x="1512" y="35"/>
                    <a:pt x="1313" y="172"/>
                    <a:pt x="1125" y="207"/>
                  </a:cubicBezTo>
                  <a:cubicBezTo>
                    <a:pt x="937" y="242"/>
                    <a:pt x="646" y="188"/>
                    <a:pt x="459" y="211"/>
                  </a:cubicBezTo>
                  <a:cubicBezTo>
                    <a:pt x="272" y="234"/>
                    <a:pt x="96" y="318"/>
                    <a:pt x="0" y="34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657760" y="3271680"/>
              <a:ext cx="2522160" cy="549360"/>
            </a:xfrm>
            <a:custGeom>
              <a:avLst/>
              <a:gdLst/>
              <a:ahLst/>
              <a:rect l="l" t="t" r="r" b="b"/>
              <a:pathLst>
                <a:path w="1589" h="346">
                  <a:moveTo>
                    <a:pt x="1589" y="0"/>
                  </a:moveTo>
                  <a:cubicBezTo>
                    <a:pt x="1512" y="35"/>
                    <a:pt x="1313" y="172"/>
                    <a:pt x="1125" y="207"/>
                  </a:cubicBezTo>
                  <a:cubicBezTo>
                    <a:pt x="937" y="242"/>
                    <a:pt x="646" y="188"/>
                    <a:pt x="459" y="211"/>
                  </a:cubicBezTo>
                  <a:cubicBezTo>
                    <a:pt x="272" y="234"/>
                    <a:pt x="96" y="318"/>
                    <a:pt x="0" y="34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794200" y="2884320"/>
              <a:ext cx="2522160" cy="549360"/>
            </a:xfrm>
            <a:custGeom>
              <a:avLst/>
              <a:gdLst/>
              <a:ahLst/>
              <a:rect l="l" t="t" r="r" b="b"/>
              <a:pathLst>
                <a:path w="1589" h="346">
                  <a:moveTo>
                    <a:pt x="1589" y="0"/>
                  </a:moveTo>
                  <a:cubicBezTo>
                    <a:pt x="1512" y="35"/>
                    <a:pt x="1313" y="172"/>
                    <a:pt x="1125" y="207"/>
                  </a:cubicBezTo>
                  <a:cubicBezTo>
                    <a:pt x="937" y="242"/>
                    <a:pt x="646" y="188"/>
                    <a:pt x="459" y="211"/>
                  </a:cubicBezTo>
                  <a:cubicBezTo>
                    <a:pt x="272" y="234"/>
                    <a:pt x="96" y="318"/>
                    <a:pt x="0" y="34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700600" y="2489040"/>
              <a:ext cx="2522160" cy="549360"/>
            </a:xfrm>
            <a:custGeom>
              <a:avLst/>
              <a:gdLst/>
              <a:ahLst/>
              <a:rect l="l" t="t" r="r" b="b"/>
              <a:pathLst>
                <a:path w="1589" h="346">
                  <a:moveTo>
                    <a:pt x="1589" y="0"/>
                  </a:moveTo>
                  <a:cubicBezTo>
                    <a:pt x="1512" y="35"/>
                    <a:pt x="1313" y="172"/>
                    <a:pt x="1125" y="207"/>
                  </a:cubicBezTo>
                  <a:cubicBezTo>
                    <a:pt x="937" y="242"/>
                    <a:pt x="646" y="188"/>
                    <a:pt x="459" y="211"/>
                  </a:cubicBezTo>
                  <a:cubicBezTo>
                    <a:pt x="272" y="234"/>
                    <a:pt x="96" y="318"/>
                    <a:pt x="0" y="34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9480" y="2189160"/>
              <a:ext cx="2522160" cy="549000"/>
            </a:xfrm>
            <a:custGeom>
              <a:avLst/>
              <a:gdLst/>
              <a:ahLst/>
              <a:rect l="l" t="t" r="r" b="b"/>
              <a:pathLst>
                <a:path w="1589" h="346">
                  <a:moveTo>
                    <a:pt x="1589" y="0"/>
                  </a:moveTo>
                  <a:cubicBezTo>
                    <a:pt x="1512" y="35"/>
                    <a:pt x="1313" y="172"/>
                    <a:pt x="1125" y="207"/>
                  </a:cubicBezTo>
                  <a:cubicBezTo>
                    <a:pt x="937" y="242"/>
                    <a:pt x="646" y="188"/>
                    <a:pt x="459" y="211"/>
                  </a:cubicBezTo>
                  <a:cubicBezTo>
                    <a:pt x="272" y="234"/>
                    <a:pt x="96" y="318"/>
                    <a:pt x="0" y="34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ormable trans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1103400" y="2440080"/>
            <a:ext cx="0" cy="25336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941400" y="4824360"/>
            <a:ext cx="25876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4800" y="2055960"/>
            <a:ext cx="3366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104840" y="5359320"/>
            <a:ext cx="20480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d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741840" y="3411360"/>
            <a:ext cx="154296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5767560" y="2433600"/>
            <a:ext cx="0" cy="253368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605560" y="4818240"/>
            <a:ext cx="258768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026560" y="4967280"/>
            <a:ext cx="333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68960" y="2049480"/>
            <a:ext cx="3366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764320" y="5376960"/>
            <a:ext cx="21668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ing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330720" y="4906800"/>
            <a:ext cx="333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942840" y="2440080"/>
            <a:ext cx="2587680" cy="2533680"/>
            <a:chOff x="942840" y="2440080"/>
            <a:chExt cx="2587680" cy="2533680"/>
          </a:xfrm>
        </p:grpSpPr>
        <p:sp>
          <p:nvSpPr>
            <p:cNvPr id="267" name=""/>
            <p:cNvSpPr/>
            <p:nvPr/>
          </p:nvSpPr>
          <p:spPr>
            <a:xfrm flipV="1">
              <a:off x="1104480" y="2440080"/>
              <a:ext cx="3240" cy="25336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942840" y="4823280"/>
              <a:ext cx="2587680" cy="32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944280" y="2768400"/>
              <a:ext cx="2452680" cy="1704240"/>
              <a:chOff x="944280" y="2768400"/>
              <a:chExt cx="2452680" cy="1704240"/>
            </a:xfrm>
          </p:grpSpPr>
          <p:sp>
            <p:nvSpPr>
              <p:cNvPr id="270" name=""/>
              <p:cNvSpPr/>
              <p:nvPr/>
            </p:nvSpPr>
            <p:spPr>
              <a:xfrm>
                <a:off x="944280" y="4470120"/>
                <a:ext cx="2450880" cy="25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944640" y="4128840"/>
                <a:ext cx="2450880" cy="25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945000" y="3789360"/>
                <a:ext cx="2450880" cy="25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945360" y="3447720"/>
                <a:ext cx="2450880" cy="25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945720" y="3108240"/>
                <a:ext cx="2450880" cy="25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946080" y="2768400"/>
                <a:ext cx="2450880" cy="25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1452240" y="2575800"/>
              <a:ext cx="1703880" cy="2357640"/>
              <a:chOff x="1452240" y="2575800"/>
              <a:chExt cx="1703880" cy="2357640"/>
            </a:xfrm>
          </p:grpSpPr>
          <p:sp>
            <p:nvSpPr>
              <p:cNvPr id="277" name=""/>
              <p:cNvSpPr/>
              <p:nvPr/>
            </p:nvSpPr>
            <p:spPr>
              <a:xfrm flipH="1">
                <a:off x="1452240" y="2575800"/>
                <a:ext cx="2160" cy="23558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>
                <a:off x="1793520" y="2576160"/>
                <a:ext cx="2160" cy="23558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>
                <a:off x="2133000" y="2576520"/>
                <a:ext cx="2160" cy="23558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>
                <a:off x="2474640" y="2576880"/>
                <a:ext cx="2160" cy="23558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2814120" y="2577240"/>
                <a:ext cx="2160" cy="23558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3153960" y="2577600"/>
                <a:ext cx="2160" cy="23558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3" name=""/>
          <p:cNvSpPr/>
          <p:nvPr/>
        </p:nvSpPr>
        <p:spPr>
          <a:xfrm>
            <a:off x="1103400" y="2768760"/>
            <a:ext cx="1709640" cy="206208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764320" y="2433600"/>
            <a:ext cx="1947600" cy="238284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111560" y="3922560"/>
            <a:ext cx="970200" cy="235080"/>
          </a:xfrm>
          <a:prstGeom prst="rightArrow">
            <a:avLst>
              <a:gd name="adj1" fmla="val 50000"/>
              <a:gd name="adj2" fmla="val 103178"/>
            </a:avLst>
          </a:prstGeom>
          <a:solidFill>
            <a:srgbClr val="3333cc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835280" y="3681360"/>
            <a:ext cx="260280" cy="24120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611760" y="3494160"/>
            <a:ext cx="260640" cy="24120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5721480" y="2405160"/>
            <a:ext cx="2439720" cy="243972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1066680" y="2362320"/>
            <a:ext cx="2440080" cy="243972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2336760" y="1536840"/>
            <a:ext cx="4614840" cy="2114280"/>
          </a:xfrm>
          <a:custGeom>
            <a:avLst/>
            <a:gdLst/>
            <a:ahLst/>
            <a:rect l="l" t="t" r="r" b="b"/>
            <a:pathLst>
              <a:path w="2907" h="1332">
                <a:moveTo>
                  <a:pt x="0" y="1332"/>
                </a:moveTo>
                <a:cubicBezTo>
                  <a:pt x="370" y="845"/>
                  <a:pt x="530" y="0"/>
                  <a:pt x="1390" y="9"/>
                </a:cubicBezTo>
                <a:cubicBezTo>
                  <a:pt x="2250" y="18"/>
                  <a:pt x="2552" y="787"/>
                  <a:pt x="2907" y="1318"/>
                </a:cubicBezTo>
              </a:path>
            </a:pathLst>
          </a:custGeom>
          <a:noFill/>
          <a:ln w="50760">
            <a:solidFill>
              <a:srgbClr val="3333cc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5442120" y="2189160"/>
            <a:ext cx="2876040" cy="2705040"/>
            <a:chOff x="5442120" y="2189160"/>
            <a:chExt cx="2876040" cy="2705040"/>
          </a:xfrm>
        </p:grpSpPr>
        <p:sp>
          <p:nvSpPr>
            <p:cNvPr id="292" name=""/>
            <p:cNvSpPr/>
            <p:nvPr/>
          </p:nvSpPr>
          <p:spPr>
            <a:xfrm>
              <a:off x="5745240" y="2328840"/>
              <a:ext cx="588600" cy="2522520"/>
            </a:xfrm>
            <a:custGeom>
              <a:avLst/>
              <a:gdLst/>
              <a:ahLst/>
              <a:rect l="l" t="t" r="r" b="b"/>
              <a:pathLst>
                <a:path w="371" h="1589">
                  <a:moveTo>
                    <a:pt x="25" y="0"/>
                  </a:moveTo>
                  <a:cubicBezTo>
                    <a:pt x="182" y="146"/>
                    <a:pt x="338" y="281"/>
                    <a:pt x="335" y="468"/>
                  </a:cubicBezTo>
                  <a:cubicBezTo>
                    <a:pt x="332" y="655"/>
                    <a:pt x="0" y="934"/>
                    <a:pt x="6" y="1121"/>
                  </a:cubicBezTo>
                  <a:cubicBezTo>
                    <a:pt x="12" y="1308"/>
                    <a:pt x="295" y="1492"/>
                    <a:pt x="371" y="1589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100560" y="2328840"/>
              <a:ext cx="588600" cy="2522520"/>
            </a:xfrm>
            <a:custGeom>
              <a:avLst/>
              <a:gdLst/>
              <a:ahLst/>
              <a:rect l="l" t="t" r="r" b="b"/>
              <a:pathLst>
                <a:path w="371" h="1589">
                  <a:moveTo>
                    <a:pt x="25" y="0"/>
                  </a:moveTo>
                  <a:cubicBezTo>
                    <a:pt x="182" y="146"/>
                    <a:pt x="338" y="281"/>
                    <a:pt x="335" y="468"/>
                  </a:cubicBezTo>
                  <a:cubicBezTo>
                    <a:pt x="332" y="655"/>
                    <a:pt x="0" y="934"/>
                    <a:pt x="6" y="1121"/>
                  </a:cubicBezTo>
                  <a:cubicBezTo>
                    <a:pt x="12" y="1308"/>
                    <a:pt x="295" y="1492"/>
                    <a:pt x="371" y="1589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451560" y="2361960"/>
              <a:ext cx="588600" cy="2522520"/>
            </a:xfrm>
            <a:custGeom>
              <a:avLst/>
              <a:gdLst/>
              <a:ahLst/>
              <a:rect l="l" t="t" r="r" b="b"/>
              <a:pathLst>
                <a:path w="371" h="1589">
                  <a:moveTo>
                    <a:pt x="25" y="0"/>
                  </a:moveTo>
                  <a:cubicBezTo>
                    <a:pt x="182" y="146"/>
                    <a:pt x="338" y="281"/>
                    <a:pt x="335" y="468"/>
                  </a:cubicBezTo>
                  <a:cubicBezTo>
                    <a:pt x="332" y="655"/>
                    <a:pt x="0" y="934"/>
                    <a:pt x="6" y="1121"/>
                  </a:cubicBezTo>
                  <a:cubicBezTo>
                    <a:pt x="12" y="1308"/>
                    <a:pt x="295" y="1492"/>
                    <a:pt x="371" y="1589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858000" y="2371680"/>
              <a:ext cx="588600" cy="2522520"/>
            </a:xfrm>
            <a:custGeom>
              <a:avLst/>
              <a:gdLst/>
              <a:ahLst/>
              <a:rect l="l" t="t" r="r" b="b"/>
              <a:pathLst>
                <a:path w="371" h="1589">
                  <a:moveTo>
                    <a:pt x="25" y="0"/>
                  </a:moveTo>
                  <a:cubicBezTo>
                    <a:pt x="182" y="146"/>
                    <a:pt x="338" y="281"/>
                    <a:pt x="335" y="468"/>
                  </a:cubicBezTo>
                  <a:cubicBezTo>
                    <a:pt x="332" y="655"/>
                    <a:pt x="0" y="934"/>
                    <a:pt x="6" y="1121"/>
                  </a:cubicBezTo>
                  <a:cubicBezTo>
                    <a:pt x="12" y="1308"/>
                    <a:pt x="295" y="1492"/>
                    <a:pt x="371" y="1589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232400" y="2349360"/>
              <a:ext cx="588600" cy="2522520"/>
            </a:xfrm>
            <a:custGeom>
              <a:avLst/>
              <a:gdLst/>
              <a:ahLst/>
              <a:rect l="l" t="t" r="r" b="b"/>
              <a:pathLst>
                <a:path w="371" h="1589">
                  <a:moveTo>
                    <a:pt x="25" y="0"/>
                  </a:moveTo>
                  <a:cubicBezTo>
                    <a:pt x="182" y="146"/>
                    <a:pt x="338" y="281"/>
                    <a:pt x="335" y="468"/>
                  </a:cubicBezTo>
                  <a:cubicBezTo>
                    <a:pt x="332" y="655"/>
                    <a:pt x="0" y="934"/>
                    <a:pt x="6" y="1121"/>
                  </a:cubicBezTo>
                  <a:cubicBezTo>
                    <a:pt x="12" y="1308"/>
                    <a:pt x="295" y="1492"/>
                    <a:pt x="371" y="1589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591320" y="2319120"/>
              <a:ext cx="588600" cy="2522520"/>
            </a:xfrm>
            <a:custGeom>
              <a:avLst/>
              <a:gdLst/>
              <a:ahLst/>
              <a:rect l="l" t="t" r="r" b="b"/>
              <a:pathLst>
                <a:path w="371" h="1589">
                  <a:moveTo>
                    <a:pt x="25" y="0"/>
                  </a:moveTo>
                  <a:cubicBezTo>
                    <a:pt x="182" y="146"/>
                    <a:pt x="338" y="281"/>
                    <a:pt x="335" y="468"/>
                  </a:cubicBezTo>
                  <a:cubicBezTo>
                    <a:pt x="332" y="655"/>
                    <a:pt x="0" y="934"/>
                    <a:pt x="6" y="1121"/>
                  </a:cubicBezTo>
                  <a:cubicBezTo>
                    <a:pt x="12" y="1308"/>
                    <a:pt x="295" y="1492"/>
                    <a:pt x="371" y="1589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796000" y="4322520"/>
              <a:ext cx="2522160" cy="549360"/>
            </a:xfrm>
            <a:custGeom>
              <a:avLst/>
              <a:gdLst/>
              <a:ahLst/>
              <a:rect l="l" t="t" r="r" b="b"/>
              <a:pathLst>
                <a:path w="1589" h="346">
                  <a:moveTo>
                    <a:pt x="1589" y="0"/>
                  </a:moveTo>
                  <a:cubicBezTo>
                    <a:pt x="1512" y="35"/>
                    <a:pt x="1313" y="172"/>
                    <a:pt x="1125" y="207"/>
                  </a:cubicBezTo>
                  <a:cubicBezTo>
                    <a:pt x="937" y="242"/>
                    <a:pt x="646" y="188"/>
                    <a:pt x="459" y="211"/>
                  </a:cubicBezTo>
                  <a:cubicBezTo>
                    <a:pt x="272" y="234"/>
                    <a:pt x="96" y="318"/>
                    <a:pt x="0" y="346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607000" y="4022640"/>
              <a:ext cx="2522160" cy="549360"/>
            </a:xfrm>
            <a:custGeom>
              <a:avLst/>
              <a:gdLst/>
              <a:ahLst/>
              <a:rect l="l" t="t" r="r" b="b"/>
              <a:pathLst>
                <a:path w="1589" h="346">
                  <a:moveTo>
                    <a:pt x="1589" y="0"/>
                  </a:moveTo>
                  <a:cubicBezTo>
                    <a:pt x="1512" y="35"/>
                    <a:pt x="1313" y="172"/>
                    <a:pt x="1125" y="207"/>
                  </a:cubicBezTo>
                  <a:cubicBezTo>
                    <a:pt x="937" y="242"/>
                    <a:pt x="646" y="188"/>
                    <a:pt x="459" y="211"/>
                  </a:cubicBezTo>
                  <a:cubicBezTo>
                    <a:pt x="272" y="234"/>
                    <a:pt x="96" y="318"/>
                    <a:pt x="0" y="346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442120" y="3674880"/>
              <a:ext cx="2522160" cy="549360"/>
            </a:xfrm>
            <a:custGeom>
              <a:avLst/>
              <a:gdLst/>
              <a:ahLst/>
              <a:rect l="l" t="t" r="r" b="b"/>
              <a:pathLst>
                <a:path w="1589" h="346">
                  <a:moveTo>
                    <a:pt x="1589" y="0"/>
                  </a:moveTo>
                  <a:cubicBezTo>
                    <a:pt x="1512" y="35"/>
                    <a:pt x="1313" y="172"/>
                    <a:pt x="1125" y="207"/>
                  </a:cubicBezTo>
                  <a:cubicBezTo>
                    <a:pt x="937" y="242"/>
                    <a:pt x="646" y="188"/>
                    <a:pt x="459" y="211"/>
                  </a:cubicBezTo>
                  <a:cubicBezTo>
                    <a:pt x="272" y="234"/>
                    <a:pt x="96" y="318"/>
                    <a:pt x="0" y="346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657760" y="3271680"/>
              <a:ext cx="2522160" cy="549360"/>
            </a:xfrm>
            <a:custGeom>
              <a:avLst/>
              <a:gdLst/>
              <a:ahLst/>
              <a:rect l="l" t="t" r="r" b="b"/>
              <a:pathLst>
                <a:path w="1589" h="346">
                  <a:moveTo>
                    <a:pt x="1589" y="0"/>
                  </a:moveTo>
                  <a:cubicBezTo>
                    <a:pt x="1512" y="35"/>
                    <a:pt x="1313" y="172"/>
                    <a:pt x="1125" y="207"/>
                  </a:cubicBezTo>
                  <a:cubicBezTo>
                    <a:pt x="937" y="242"/>
                    <a:pt x="646" y="188"/>
                    <a:pt x="459" y="211"/>
                  </a:cubicBezTo>
                  <a:cubicBezTo>
                    <a:pt x="272" y="234"/>
                    <a:pt x="96" y="318"/>
                    <a:pt x="0" y="346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794200" y="2884320"/>
              <a:ext cx="2522160" cy="549360"/>
            </a:xfrm>
            <a:custGeom>
              <a:avLst/>
              <a:gdLst/>
              <a:ahLst/>
              <a:rect l="l" t="t" r="r" b="b"/>
              <a:pathLst>
                <a:path w="1589" h="346">
                  <a:moveTo>
                    <a:pt x="1589" y="0"/>
                  </a:moveTo>
                  <a:cubicBezTo>
                    <a:pt x="1512" y="35"/>
                    <a:pt x="1313" y="172"/>
                    <a:pt x="1125" y="207"/>
                  </a:cubicBezTo>
                  <a:cubicBezTo>
                    <a:pt x="937" y="242"/>
                    <a:pt x="646" y="188"/>
                    <a:pt x="459" y="211"/>
                  </a:cubicBezTo>
                  <a:cubicBezTo>
                    <a:pt x="272" y="234"/>
                    <a:pt x="96" y="318"/>
                    <a:pt x="0" y="346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700600" y="2489040"/>
              <a:ext cx="2522160" cy="549360"/>
            </a:xfrm>
            <a:custGeom>
              <a:avLst/>
              <a:gdLst/>
              <a:ahLst/>
              <a:rect l="l" t="t" r="r" b="b"/>
              <a:pathLst>
                <a:path w="1589" h="346">
                  <a:moveTo>
                    <a:pt x="1589" y="0"/>
                  </a:moveTo>
                  <a:cubicBezTo>
                    <a:pt x="1512" y="35"/>
                    <a:pt x="1313" y="172"/>
                    <a:pt x="1125" y="207"/>
                  </a:cubicBezTo>
                  <a:cubicBezTo>
                    <a:pt x="937" y="242"/>
                    <a:pt x="646" y="188"/>
                    <a:pt x="459" y="211"/>
                  </a:cubicBezTo>
                  <a:cubicBezTo>
                    <a:pt x="272" y="234"/>
                    <a:pt x="96" y="318"/>
                    <a:pt x="0" y="346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559480" y="2189160"/>
              <a:ext cx="2522160" cy="549000"/>
            </a:xfrm>
            <a:custGeom>
              <a:avLst/>
              <a:gdLst/>
              <a:ahLst/>
              <a:rect l="l" t="t" r="r" b="b"/>
              <a:pathLst>
                <a:path w="1589" h="346">
                  <a:moveTo>
                    <a:pt x="1589" y="0"/>
                  </a:moveTo>
                  <a:cubicBezTo>
                    <a:pt x="1512" y="35"/>
                    <a:pt x="1313" y="172"/>
                    <a:pt x="1125" y="207"/>
                  </a:cubicBezTo>
                  <a:cubicBezTo>
                    <a:pt x="937" y="242"/>
                    <a:pt x="646" y="188"/>
                    <a:pt x="459" y="211"/>
                  </a:cubicBezTo>
                  <a:cubicBezTo>
                    <a:pt x="272" y="234"/>
                    <a:pt x="96" y="318"/>
                    <a:pt x="0" y="346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1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ormable Trans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455840" y="1447920"/>
            <a:ext cx="3366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1703880" y="1504800"/>
            <a:ext cx="5642640" cy="4496760"/>
            <a:chOff x="1703880" y="1504800"/>
            <a:chExt cx="5642640" cy="4496760"/>
          </a:xfrm>
        </p:grpSpPr>
        <p:sp>
          <p:nvSpPr>
            <p:cNvPr id="308" name=""/>
            <p:cNvSpPr/>
            <p:nvPr/>
          </p:nvSpPr>
          <p:spPr>
            <a:xfrm flipV="1">
              <a:off x="2067480" y="1504800"/>
              <a:ext cx="5400" cy="448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80200" y="5815080"/>
              <a:ext cx="5566320" cy="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1703880" y="2156760"/>
              <a:ext cx="5274360" cy="3018600"/>
              <a:chOff x="1703880" y="2156760"/>
              <a:chExt cx="5274360" cy="3018600"/>
            </a:xfrm>
          </p:grpSpPr>
          <p:sp>
            <p:nvSpPr>
              <p:cNvPr id="311" name=""/>
              <p:cNvSpPr/>
              <p:nvPr/>
            </p:nvSpPr>
            <p:spPr>
              <a:xfrm>
                <a:off x="1703880" y="5169960"/>
                <a:ext cx="5271480" cy="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704240" y="4565520"/>
                <a:ext cx="5271480" cy="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704960" y="3964320"/>
                <a:ext cx="5271480" cy="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705680" y="3359520"/>
                <a:ext cx="5271480" cy="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706400" y="2758320"/>
                <a:ext cx="5271480" cy="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706760" y="2156760"/>
                <a:ext cx="5271480" cy="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2804400" y="1826280"/>
              <a:ext cx="3664440" cy="4175280"/>
              <a:chOff x="2804400" y="1826280"/>
              <a:chExt cx="3664440" cy="4175280"/>
            </a:xfrm>
          </p:grpSpPr>
          <p:sp>
            <p:nvSpPr>
              <p:cNvPr id="318" name=""/>
              <p:cNvSpPr/>
              <p:nvPr/>
            </p:nvSpPr>
            <p:spPr>
              <a:xfrm flipH="1">
                <a:off x="2804400" y="1826280"/>
                <a:ext cx="4680" cy="4171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>
                <a:off x="3538440" y="1827000"/>
                <a:ext cx="4680" cy="4171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>
                <a:off x="4268520" y="1828080"/>
                <a:ext cx="4680" cy="4171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H="1">
                <a:off x="5003280" y="1828800"/>
                <a:ext cx="4680" cy="4171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>
                <a:off x="5733360" y="1829520"/>
                <a:ext cx="4680" cy="4171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6464160" y="1830240"/>
                <a:ext cx="4680" cy="4171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4" name=""/>
          <p:cNvSpPr/>
          <p:nvPr/>
        </p:nvSpPr>
        <p:spPr>
          <a:xfrm>
            <a:off x="7010280" y="5991120"/>
            <a:ext cx="3366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2065320" y="1599840"/>
            <a:ext cx="4944960" cy="4216680"/>
            <a:chOff x="2065320" y="1599840"/>
            <a:chExt cx="4944960" cy="4216680"/>
          </a:xfrm>
        </p:grpSpPr>
        <p:sp>
          <p:nvSpPr>
            <p:cNvPr id="326" name=""/>
            <p:cNvSpPr/>
            <p:nvPr/>
          </p:nvSpPr>
          <p:spPr>
            <a:xfrm flipV="1">
              <a:off x="4272120" y="2936520"/>
              <a:ext cx="500040" cy="423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5003640" y="3022200"/>
              <a:ext cx="27180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5735520" y="3022200"/>
              <a:ext cx="27144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6467400" y="3171960"/>
              <a:ext cx="507960" cy="188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3540240" y="3022200"/>
              <a:ext cx="27144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2806560" y="3022200"/>
              <a:ext cx="27144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2068560" y="3022200"/>
              <a:ext cx="12384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4270320" y="3537000"/>
              <a:ext cx="501840" cy="4269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02200" y="3625560"/>
              <a:ext cx="45072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734080" y="3750840"/>
              <a:ext cx="490680" cy="2127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465960" y="3750840"/>
              <a:ext cx="544320" cy="2127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3538440" y="3537000"/>
              <a:ext cx="290520" cy="4269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2805120" y="3625560"/>
              <a:ext cx="17604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2066760" y="3625560"/>
              <a:ext cx="12564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4270320" y="4230360"/>
              <a:ext cx="27144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02200" y="4230360"/>
              <a:ext cx="45072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5734080" y="4336920"/>
              <a:ext cx="388800" cy="231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6465960" y="4336920"/>
              <a:ext cx="406440" cy="231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3538440" y="4230360"/>
              <a:ext cx="27144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2805120" y="4230360"/>
              <a:ext cx="27144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2066760" y="4230360"/>
              <a:ext cx="27180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4268880" y="4936680"/>
              <a:ext cx="271440" cy="235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5000760" y="4833720"/>
              <a:ext cx="27144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5732640" y="4833720"/>
              <a:ext cx="27144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6464160" y="4936680"/>
              <a:ext cx="408240" cy="235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37000" y="4936680"/>
              <a:ext cx="271440" cy="235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2803680" y="4833720"/>
              <a:ext cx="27144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2065320" y="4833720"/>
              <a:ext cx="27144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4289400" y="1599840"/>
              <a:ext cx="385920" cy="5554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5021280" y="1728720"/>
              <a:ext cx="431640" cy="4269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5753160" y="1817280"/>
              <a:ext cx="47160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485040" y="1831680"/>
              <a:ext cx="495360" cy="323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3557520" y="1728720"/>
              <a:ext cx="250920" cy="4269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2824200" y="1728720"/>
              <a:ext cx="156960" cy="4269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2085840" y="1817280"/>
              <a:ext cx="10656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4287960" y="2314080"/>
              <a:ext cx="387360" cy="444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5019840" y="2420640"/>
              <a:ext cx="27144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5751360" y="2420640"/>
              <a:ext cx="27144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483240" y="2522160"/>
              <a:ext cx="389160" cy="236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3556080" y="2420640"/>
              <a:ext cx="27144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2822400" y="2420640"/>
              <a:ext cx="27180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084400" y="2420640"/>
              <a:ext cx="10800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4268880" y="5614920"/>
              <a:ext cx="271440" cy="201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5000760" y="5478120"/>
              <a:ext cx="27144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5732640" y="5478120"/>
              <a:ext cx="27144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6464160" y="5478120"/>
              <a:ext cx="27144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3537000" y="5478120"/>
              <a:ext cx="27144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2803680" y="5478120"/>
              <a:ext cx="27144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2065320" y="5478120"/>
              <a:ext cx="27144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2190600" y="1608120"/>
            <a:ext cx="4815000" cy="4019400"/>
            <a:chOff x="2190600" y="1608120"/>
            <a:chExt cx="4815000" cy="4019400"/>
          </a:xfrm>
        </p:grpSpPr>
        <p:sp>
          <p:nvSpPr>
            <p:cNvPr id="376" name=""/>
            <p:cNvSpPr/>
            <p:nvPr/>
          </p:nvSpPr>
          <p:spPr>
            <a:xfrm>
              <a:off x="2203560" y="1608120"/>
              <a:ext cx="4778280" cy="231840"/>
            </a:xfrm>
            <a:custGeom>
              <a:avLst/>
              <a:gdLst/>
              <a:ahLst/>
              <a:rect l="l" t="t" r="r" b="b"/>
              <a:pathLst>
                <a:path w="3010" h="146">
                  <a:moveTo>
                    <a:pt x="0" y="132"/>
                  </a:moveTo>
                  <a:cubicBezTo>
                    <a:pt x="160" y="109"/>
                    <a:pt x="320" y="87"/>
                    <a:pt x="490" y="78"/>
                  </a:cubicBezTo>
                  <a:cubicBezTo>
                    <a:pt x="660" y="69"/>
                    <a:pt x="841" y="91"/>
                    <a:pt x="1021" y="78"/>
                  </a:cubicBezTo>
                  <a:cubicBezTo>
                    <a:pt x="1201" y="65"/>
                    <a:pt x="1398" y="0"/>
                    <a:pt x="1570" y="1"/>
                  </a:cubicBezTo>
                  <a:cubicBezTo>
                    <a:pt x="1742" y="2"/>
                    <a:pt x="1895" y="65"/>
                    <a:pt x="2056" y="87"/>
                  </a:cubicBezTo>
                  <a:cubicBezTo>
                    <a:pt x="2217" y="109"/>
                    <a:pt x="2379" y="126"/>
                    <a:pt x="2538" y="136"/>
                  </a:cubicBezTo>
                  <a:cubicBezTo>
                    <a:pt x="2697" y="146"/>
                    <a:pt x="2853" y="145"/>
                    <a:pt x="3010" y="14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195640" y="2319480"/>
              <a:ext cx="4676760" cy="204480"/>
            </a:xfrm>
            <a:custGeom>
              <a:avLst/>
              <a:gdLst/>
              <a:ahLst/>
              <a:rect l="l" t="t" r="r" b="b"/>
              <a:pathLst>
                <a:path w="2946" h="129">
                  <a:moveTo>
                    <a:pt x="0" y="69"/>
                  </a:moveTo>
                  <a:cubicBezTo>
                    <a:pt x="95" y="69"/>
                    <a:pt x="400" y="71"/>
                    <a:pt x="572" y="71"/>
                  </a:cubicBezTo>
                  <a:cubicBezTo>
                    <a:pt x="744" y="71"/>
                    <a:pt x="870" y="78"/>
                    <a:pt x="1035" y="66"/>
                  </a:cubicBezTo>
                  <a:cubicBezTo>
                    <a:pt x="1200" y="54"/>
                    <a:pt x="1411" y="0"/>
                    <a:pt x="1563" y="0"/>
                  </a:cubicBezTo>
                  <a:cubicBezTo>
                    <a:pt x="1715" y="0"/>
                    <a:pt x="1807" y="54"/>
                    <a:pt x="1947" y="66"/>
                  </a:cubicBezTo>
                  <a:cubicBezTo>
                    <a:pt x="2087" y="78"/>
                    <a:pt x="2240" y="65"/>
                    <a:pt x="2406" y="75"/>
                  </a:cubicBezTo>
                  <a:cubicBezTo>
                    <a:pt x="2572" y="85"/>
                    <a:pt x="2834" y="118"/>
                    <a:pt x="2946" y="12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190600" y="2927520"/>
              <a:ext cx="4776840" cy="244440"/>
            </a:xfrm>
            <a:custGeom>
              <a:avLst/>
              <a:gdLst/>
              <a:ahLst/>
              <a:rect l="l" t="t" r="r" b="b"/>
              <a:pathLst>
                <a:path w="3009" h="154">
                  <a:moveTo>
                    <a:pt x="0" y="70"/>
                  </a:moveTo>
                  <a:cubicBezTo>
                    <a:pt x="93" y="69"/>
                    <a:pt x="392" y="64"/>
                    <a:pt x="561" y="64"/>
                  </a:cubicBezTo>
                  <a:cubicBezTo>
                    <a:pt x="730" y="64"/>
                    <a:pt x="835" y="79"/>
                    <a:pt x="1012" y="68"/>
                  </a:cubicBezTo>
                  <a:cubicBezTo>
                    <a:pt x="1189" y="57"/>
                    <a:pt x="1467" y="2"/>
                    <a:pt x="1623" y="1"/>
                  </a:cubicBezTo>
                  <a:cubicBezTo>
                    <a:pt x="1779" y="0"/>
                    <a:pt x="1818" y="52"/>
                    <a:pt x="1950" y="61"/>
                  </a:cubicBezTo>
                  <a:cubicBezTo>
                    <a:pt x="2082" y="70"/>
                    <a:pt x="2242" y="43"/>
                    <a:pt x="2418" y="58"/>
                  </a:cubicBezTo>
                  <a:cubicBezTo>
                    <a:pt x="2594" y="73"/>
                    <a:pt x="2886" y="134"/>
                    <a:pt x="3009" y="15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205000" y="3522600"/>
              <a:ext cx="4800600" cy="263520"/>
            </a:xfrm>
            <a:custGeom>
              <a:avLst/>
              <a:gdLst/>
              <a:ahLst/>
              <a:rect l="l" t="t" r="r" b="b"/>
              <a:pathLst>
                <a:path w="3024" h="166">
                  <a:moveTo>
                    <a:pt x="0" y="67"/>
                  </a:moveTo>
                  <a:cubicBezTo>
                    <a:pt x="82" y="69"/>
                    <a:pt x="320" y="85"/>
                    <a:pt x="492" y="76"/>
                  </a:cubicBezTo>
                  <a:cubicBezTo>
                    <a:pt x="664" y="67"/>
                    <a:pt x="844" y="20"/>
                    <a:pt x="1032" y="10"/>
                  </a:cubicBezTo>
                  <a:cubicBezTo>
                    <a:pt x="1220" y="0"/>
                    <a:pt x="1450" y="6"/>
                    <a:pt x="1620" y="16"/>
                  </a:cubicBezTo>
                  <a:cubicBezTo>
                    <a:pt x="1790" y="26"/>
                    <a:pt x="1902" y="50"/>
                    <a:pt x="2055" y="73"/>
                  </a:cubicBezTo>
                  <a:cubicBezTo>
                    <a:pt x="2208" y="96"/>
                    <a:pt x="2380" y="142"/>
                    <a:pt x="2541" y="154"/>
                  </a:cubicBezTo>
                  <a:cubicBezTo>
                    <a:pt x="2702" y="166"/>
                    <a:pt x="2924" y="149"/>
                    <a:pt x="3024" y="14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338560" y="4200480"/>
              <a:ext cx="4541760" cy="155520"/>
            </a:xfrm>
            <a:custGeom>
              <a:avLst/>
              <a:gdLst/>
              <a:ahLst/>
              <a:rect l="l" t="t" r="r" b="b"/>
              <a:pathLst>
                <a:path w="2861" h="98">
                  <a:moveTo>
                    <a:pt x="0" y="27"/>
                  </a:moveTo>
                  <a:cubicBezTo>
                    <a:pt x="78" y="25"/>
                    <a:pt x="314" y="18"/>
                    <a:pt x="469" y="16"/>
                  </a:cubicBezTo>
                  <a:cubicBezTo>
                    <a:pt x="624" y="14"/>
                    <a:pt x="777" y="12"/>
                    <a:pt x="931" y="12"/>
                  </a:cubicBezTo>
                  <a:cubicBezTo>
                    <a:pt x="1085" y="12"/>
                    <a:pt x="1219" y="14"/>
                    <a:pt x="1391" y="14"/>
                  </a:cubicBezTo>
                  <a:cubicBezTo>
                    <a:pt x="1563" y="14"/>
                    <a:pt x="1797" y="0"/>
                    <a:pt x="1963" y="12"/>
                  </a:cubicBezTo>
                  <a:cubicBezTo>
                    <a:pt x="2129" y="24"/>
                    <a:pt x="2235" y="74"/>
                    <a:pt x="2385" y="86"/>
                  </a:cubicBezTo>
                  <a:cubicBezTo>
                    <a:pt x="2535" y="98"/>
                    <a:pt x="2762" y="83"/>
                    <a:pt x="2861" y="8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333520" y="4816440"/>
              <a:ext cx="4559400" cy="141480"/>
            </a:xfrm>
            <a:custGeom>
              <a:avLst/>
              <a:gdLst/>
              <a:ahLst/>
              <a:rect l="l" t="t" r="r" b="b"/>
              <a:pathLst>
                <a:path w="2872" h="89">
                  <a:moveTo>
                    <a:pt x="0" y="18"/>
                  </a:moveTo>
                  <a:cubicBezTo>
                    <a:pt x="79" y="17"/>
                    <a:pt x="316" y="0"/>
                    <a:pt x="472" y="10"/>
                  </a:cubicBezTo>
                  <a:cubicBezTo>
                    <a:pt x="628" y="20"/>
                    <a:pt x="784" y="67"/>
                    <a:pt x="938" y="78"/>
                  </a:cubicBezTo>
                  <a:cubicBezTo>
                    <a:pt x="1092" y="89"/>
                    <a:pt x="1242" y="87"/>
                    <a:pt x="1394" y="78"/>
                  </a:cubicBezTo>
                  <a:cubicBezTo>
                    <a:pt x="1546" y="69"/>
                    <a:pt x="1697" y="37"/>
                    <a:pt x="1852" y="26"/>
                  </a:cubicBezTo>
                  <a:cubicBezTo>
                    <a:pt x="2007" y="15"/>
                    <a:pt x="2152" y="2"/>
                    <a:pt x="2322" y="12"/>
                  </a:cubicBezTo>
                  <a:cubicBezTo>
                    <a:pt x="2492" y="22"/>
                    <a:pt x="2758" y="69"/>
                    <a:pt x="2872" y="8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346480" y="5452920"/>
              <a:ext cx="4410000" cy="174600"/>
            </a:xfrm>
            <a:custGeom>
              <a:avLst/>
              <a:gdLst/>
              <a:ahLst/>
              <a:rect l="l" t="t" r="r" b="b"/>
              <a:pathLst>
                <a:path w="2778" h="110">
                  <a:moveTo>
                    <a:pt x="0" y="21"/>
                  </a:moveTo>
                  <a:cubicBezTo>
                    <a:pt x="78" y="21"/>
                    <a:pt x="313" y="20"/>
                    <a:pt x="468" y="19"/>
                  </a:cubicBezTo>
                  <a:cubicBezTo>
                    <a:pt x="623" y="18"/>
                    <a:pt x="776" y="0"/>
                    <a:pt x="930" y="15"/>
                  </a:cubicBezTo>
                  <a:cubicBezTo>
                    <a:pt x="1084" y="30"/>
                    <a:pt x="1236" y="108"/>
                    <a:pt x="1390" y="109"/>
                  </a:cubicBezTo>
                  <a:cubicBezTo>
                    <a:pt x="1544" y="110"/>
                    <a:pt x="1698" y="33"/>
                    <a:pt x="1852" y="19"/>
                  </a:cubicBezTo>
                  <a:cubicBezTo>
                    <a:pt x="2006" y="5"/>
                    <a:pt x="2162" y="25"/>
                    <a:pt x="2316" y="25"/>
                  </a:cubicBezTo>
                  <a:cubicBezTo>
                    <a:pt x="2470" y="25"/>
                    <a:pt x="2682" y="20"/>
                    <a:pt x="2778" y="1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2173320" y="1809720"/>
            <a:ext cx="200160" cy="3670200"/>
          </a:xfrm>
          <a:custGeom>
            <a:avLst/>
            <a:gdLst/>
            <a:ahLst/>
            <a:rect l="l" t="t" r="r" b="b"/>
            <a:pathLst>
              <a:path w="126" h="2312">
                <a:moveTo>
                  <a:pt x="115" y="2312"/>
                </a:moveTo>
                <a:cubicBezTo>
                  <a:pt x="113" y="2245"/>
                  <a:pt x="104" y="2038"/>
                  <a:pt x="103" y="1908"/>
                </a:cubicBezTo>
                <a:cubicBezTo>
                  <a:pt x="102" y="1778"/>
                  <a:pt x="126" y="1659"/>
                  <a:pt x="111" y="1532"/>
                </a:cubicBezTo>
                <a:cubicBezTo>
                  <a:pt x="96" y="1405"/>
                  <a:pt x="30" y="1273"/>
                  <a:pt x="15" y="1144"/>
                </a:cubicBezTo>
                <a:cubicBezTo>
                  <a:pt x="0" y="1015"/>
                  <a:pt x="18" y="885"/>
                  <a:pt x="19" y="760"/>
                </a:cubicBezTo>
                <a:cubicBezTo>
                  <a:pt x="20" y="635"/>
                  <a:pt x="23" y="523"/>
                  <a:pt x="23" y="396"/>
                </a:cubicBezTo>
                <a:cubicBezTo>
                  <a:pt x="23" y="269"/>
                  <a:pt x="20" y="82"/>
                  <a:pt x="19" y="0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976480" y="1720800"/>
            <a:ext cx="128520" cy="3765600"/>
          </a:xfrm>
          <a:custGeom>
            <a:avLst/>
            <a:gdLst/>
            <a:ahLst/>
            <a:rect l="l" t="t" r="r" b="b"/>
            <a:pathLst>
              <a:path w="81" h="2372">
                <a:moveTo>
                  <a:pt x="61" y="2372"/>
                </a:moveTo>
                <a:cubicBezTo>
                  <a:pt x="61" y="2303"/>
                  <a:pt x="62" y="2087"/>
                  <a:pt x="61" y="1956"/>
                </a:cubicBezTo>
                <a:cubicBezTo>
                  <a:pt x="60" y="1825"/>
                  <a:pt x="63" y="1713"/>
                  <a:pt x="53" y="1588"/>
                </a:cubicBezTo>
                <a:cubicBezTo>
                  <a:pt x="43" y="1463"/>
                  <a:pt x="0" y="1334"/>
                  <a:pt x="1" y="1204"/>
                </a:cubicBezTo>
                <a:cubicBezTo>
                  <a:pt x="2" y="1074"/>
                  <a:pt x="49" y="936"/>
                  <a:pt x="61" y="808"/>
                </a:cubicBezTo>
                <a:cubicBezTo>
                  <a:pt x="73" y="680"/>
                  <a:pt x="81" y="571"/>
                  <a:pt x="73" y="436"/>
                </a:cubicBezTo>
                <a:cubicBezTo>
                  <a:pt x="65" y="301"/>
                  <a:pt x="25" y="91"/>
                  <a:pt x="13" y="0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803760" y="1733400"/>
            <a:ext cx="31680" cy="3727440"/>
          </a:xfrm>
          <a:custGeom>
            <a:avLst/>
            <a:gdLst/>
            <a:ahLst/>
            <a:rect l="l" t="t" r="r" b="b"/>
            <a:pathLst>
              <a:path w="20" h="2348">
                <a:moveTo>
                  <a:pt x="12" y="2348"/>
                </a:moveTo>
                <a:cubicBezTo>
                  <a:pt x="10" y="2293"/>
                  <a:pt x="0" y="2145"/>
                  <a:pt x="0" y="2016"/>
                </a:cubicBezTo>
                <a:cubicBezTo>
                  <a:pt x="0" y="1887"/>
                  <a:pt x="7" y="1719"/>
                  <a:pt x="10" y="1572"/>
                </a:cubicBezTo>
                <a:cubicBezTo>
                  <a:pt x="13" y="1425"/>
                  <a:pt x="20" y="1257"/>
                  <a:pt x="19" y="1131"/>
                </a:cubicBezTo>
                <a:cubicBezTo>
                  <a:pt x="18" y="1005"/>
                  <a:pt x="4" y="929"/>
                  <a:pt x="4" y="813"/>
                </a:cubicBezTo>
                <a:cubicBezTo>
                  <a:pt x="4" y="697"/>
                  <a:pt x="16" y="570"/>
                  <a:pt x="16" y="435"/>
                </a:cubicBezTo>
                <a:cubicBezTo>
                  <a:pt x="16" y="300"/>
                  <a:pt x="4" y="91"/>
                  <a:pt x="1" y="0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506840" y="1604880"/>
            <a:ext cx="287280" cy="4019760"/>
          </a:xfrm>
          <a:custGeom>
            <a:avLst/>
            <a:gdLst/>
            <a:ahLst/>
            <a:rect l="l" t="t" r="r" b="b"/>
            <a:pathLst>
              <a:path w="181" h="2532">
                <a:moveTo>
                  <a:pt x="20" y="2532"/>
                </a:moveTo>
                <a:cubicBezTo>
                  <a:pt x="20" y="2461"/>
                  <a:pt x="19" y="2247"/>
                  <a:pt x="20" y="2100"/>
                </a:cubicBezTo>
                <a:cubicBezTo>
                  <a:pt x="21" y="1953"/>
                  <a:pt x="0" y="1796"/>
                  <a:pt x="23" y="1650"/>
                </a:cubicBezTo>
                <a:cubicBezTo>
                  <a:pt x="46" y="1504"/>
                  <a:pt x="135" y="1356"/>
                  <a:pt x="158" y="1221"/>
                </a:cubicBezTo>
                <a:cubicBezTo>
                  <a:pt x="181" y="1086"/>
                  <a:pt x="171" y="965"/>
                  <a:pt x="161" y="837"/>
                </a:cubicBezTo>
                <a:cubicBezTo>
                  <a:pt x="151" y="709"/>
                  <a:pt x="107" y="589"/>
                  <a:pt x="98" y="450"/>
                </a:cubicBezTo>
                <a:cubicBezTo>
                  <a:pt x="89" y="311"/>
                  <a:pt x="105" y="94"/>
                  <a:pt x="107" y="0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243400" y="1743120"/>
            <a:ext cx="246240" cy="3736800"/>
          </a:xfrm>
          <a:custGeom>
            <a:avLst/>
            <a:gdLst/>
            <a:ahLst/>
            <a:rect l="l" t="t" r="r" b="b"/>
            <a:pathLst>
              <a:path w="155" h="2354">
                <a:moveTo>
                  <a:pt x="13" y="2354"/>
                </a:moveTo>
                <a:cubicBezTo>
                  <a:pt x="14" y="2288"/>
                  <a:pt x="0" y="2091"/>
                  <a:pt x="21" y="1959"/>
                </a:cubicBezTo>
                <a:cubicBezTo>
                  <a:pt x="42" y="1827"/>
                  <a:pt x="121" y="1691"/>
                  <a:pt x="138" y="1563"/>
                </a:cubicBezTo>
                <a:cubicBezTo>
                  <a:pt x="155" y="1435"/>
                  <a:pt x="146" y="1316"/>
                  <a:pt x="126" y="1191"/>
                </a:cubicBezTo>
                <a:cubicBezTo>
                  <a:pt x="106" y="1066"/>
                  <a:pt x="30" y="939"/>
                  <a:pt x="15" y="810"/>
                </a:cubicBezTo>
                <a:cubicBezTo>
                  <a:pt x="0" y="681"/>
                  <a:pt x="16" y="552"/>
                  <a:pt x="33" y="417"/>
                </a:cubicBezTo>
                <a:cubicBezTo>
                  <a:pt x="50" y="282"/>
                  <a:pt x="102" y="87"/>
                  <a:pt x="120" y="0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978520" y="1819440"/>
            <a:ext cx="249120" cy="3681360"/>
          </a:xfrm>
          <a:custGeom>
            <a:avLst/>
            <a:gdLst/>
            <a:ahLst/>
            <a:rect l="l" t="t" r="r" b="b"/>
            <a:pathLst>
              <a:path w="157" h="2319">
                <a:moveTo>
                  <a:pt x="20" y="2319"/>
                </a:moveTo>
                <a:cubicBezTo>
                  <a:pt x="21" y="2249"/>
                  <a:pt x="18" y="2021"/>
                  <a:pt x="29" y="1899"/>
                </a:cubicBezTo>
                <a:cubicBezTo>
                  <a:pt x="40" y="1777"/>
                  <a:pt x="67" y="1699"/>
                  <a:pt x="86" y="1587"/>
                </a:cubicBezTo>
                <a:cubicBezTo>
                  <a:pt x="105" y="1475"/>
                  <a:pt x="157" y="1362"/>
                  <a:pt x="146" y="1224"/>
                </a:cubicBezTo>
                <a:cubicBezTo>
                  <a:pt x="135" y="1086"/>
                  <a:pt x="40" y="895"/>
                  <a:pt x="20" y="756"/>
                </a:cubicBezTo>
                <a:cubicBezTo>
                  <a:pt x="0" y="617"/>
                  <a:pt x="5" y="513"/>
                  <a:pt x="26" y="387"/>
                </a:cubicBezTo>
                <a:cubicBezTo>
                  <a:pt x="47" y="261"/>
                  <a:pt x="124" y="81"/>
                  <a:pt x="149" y="0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743880" y="1843200"/>
            <a:ext cx="269640" cy="3643200"/>
          </a:xfrm>
          <a:custGeom>
            <a:avLst/>
            <a:gdLst/>
            <a:ahLst/>
            <a:rect l="l" t="t" r="r" b="b"/>
            <a:pathLst>
              <a:path w="170" h="2295">
                <a:moveTo>
                  <a:pt x="0" y="2295"/>
                </a:moveTo>
                <a:cubicBezTo>
                  <a:pt x="14" y="2239"/>
                  <a:pt x="71" y="2080"/>
                  <a:pt x="84" y="1959"/>
                </a:cubicBezTo>
                <a:cubicBezTo>
                  <a:pt x="97" y="1838"/>
                  <a:pt x="68" y="1691"/>
                  <a:pt x="81" y="1566"/>
                </a:cubicBezTo>
                <a:cubicBezTo>
                  <a:pt x="94" y="1441"/>
                  <a:pt x="154" y="1327"/>
                  <a:pt x="162" y="1206"/>
                </a:cubicBezTo>
                <a:cubicBezTo>
                  <a:pt x="170" y="1085"/>
                  <a:pt x="142" y="966"/>
                  <a:pt x="129" y="837"/>
                </a:cubicBezTo>
                <a:cubicBezTo>
                  <a:pt x="116" y="708"/>
                  <a:pt x="78" y="571"/>
                  <a:pt x="81" y="432"/>
                </a:cubicBezTo>
                <a:cubicBezTo>
                  <a:pt x="84" y="293"/>
                  <a:pt x="133" y="90"/>
                  <a:pt x="147" y="0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Spline Gr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55840" y="1447920"/>
            <a:ext cx="3366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703880" y="1504800"/>
            <a:ext cx="5642640" cy="4496760"/>
            <a:chOff x="1703880" y="1504800"/>
            <a:chExt cx="5642640" cy="4496760"/>
          </a:xfrm>
        </p:grpSpPr>
        <p:sp>
          <p:nvSpPr>
            <p:cNvPr id="393" name=""/>
            <p:cNvSpPr/>
            <p:nvPr/>
          </p:nvSpPr>
          <p:spPr>
            <a:xfrm flipV="1">
              <a:off x="2067480" y="1504800"/>
              <a:ext cx="5400" cy="4486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780200" y="5815080"/>
              <a:ext cx="5566320" cy="6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5" name=""/>
            <p:cNvGrpSpPr/>
            <p:nvPr/>
          </p:nvGrpSpPr>
          <p:grpSpPr>
            <a:xfrm>
              <a:off x="1703880" y="2156760"/>
              <a:ext cx="5274360" cy="3018600"/>
              <a:chOff x="1703880" y="2156760"/>
              <a:chExt cx="5274360" cy="3018600"/>
            </a:xfrm>
          </p:grpSpPr>
          <p:sp>
            <p:nvSpPr>
              <p:cNvPr id="396" name=""/>
              <p:cNvSpPr/>
              <p:nvPr/>
            </p:nvSpPr>
            <p:spPr>
              <a:xfrm>
                <a:off x="1703880" y="5169960"/>
                <a:ext cx="5271480" cy="5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704240" y="4565520"/>
                <a:ext cx="5271480" cy="5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704960" y="3964320"/>
                <a:ext cx="5271480" cy="5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705680" y="3359520"/>
                <a:ext cx="5271480" cy="5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706400" y="2758320"/>
                <a:ext cx="5271480" cy="5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706760" y="2156760"/>
                <a:ext cx="5271480" cy="5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2804400" y="1826280"/>
              <a:ext cx="3664440" cy="4175280"/>
              <a:chOff x="2804400" y="1826280"/>
              <a:chExt cx="3664440" cy="4175280"/>
            </a:xfrm>
          </p:grpSpPr>
          <p:sp>
            <p:nvSpPr>
              <p:cNvPr id="403" name=""/>
              <p:cNvSpPr/>
              <p:nvPr/>
            </p:nvSpPr>
            <p:spPr>
              <a:xfrm flipH="1">
                <a:off x="2804400" y="1826280"/>
                <a:ext cx="4680" cy="4171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>
                <a:off x="3538440" y="1827000"/>
                <a:ext cx="4680" cy="4171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H="1">
                <a:off x="4268520" y="1828080"/>
                <a:ext cx="4680" cy="4171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H="1">
                <a:off x="5003280" y="1828800"/>
                <a:ext cx="4680" cy="4171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H="1">
                <a:off x="5733360" y="1829520"/>
                <a:ext cx="4680" cy="4171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>
                <a:off x="6464160" y="1830240"/>
                <a:ext cx="4680" cy="4171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9" name=""/>
          <p:cNvSpPr/>
          <p:nvPr/>
        </p:nvSpPr>
        <p:spPr>
          <a:xfrm>
            <a:off x="7010280" y="5991120"/>
            <a:ext cx="3366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2065320" y="1599840"/>
            <a:ext cx="4944960" cy="4216680"/>
            <a:chOff x="2065320" y="1599840"/>
            <a:chExt cx="4944960" cy="4216680"/>
          </a:xfrm>
        </p:grpSpPr>
        <p:sp>
          <p:nvSpPr>
            <p:cNvPr id="411" name=""/>
            <p:cNvSpPr/>
            <p:nvPr/>
          </p:nvSpPr>
          <p:spPr>
            <a:xfrm flipV="1">
              <a:off x="4272120" y="2936520"/>
              <a:ext cx="500040" cy="423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5003640" y="3022200"/>
              <a:ext cx="27180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5735520" y="3022200"/>
              <a:ext cx="27144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6467400" y="3171960"/>
              <a:ext cx="507960" cy="188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3540240" y="3022200"/>
              <a:ext cx="27144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2806560" y="3022200"/>
              <a:ext cx="27144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2068560" y="3022200"/>
              <a:ext cx="12384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4270320" y="3537000"/>
              <a:ext cx="501840" cy="4269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5002200" y="3625560"/>
              <a:ext cx="45072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5734080" y="3750840"/>
              <a:ext cx="490680" cy="2127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6465960" y="3750840"/>
              <a:ext cx="544320" cy="2127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3538440" y="3537000"/>
              <a:ext cx="290520" cy="4269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2805120" y="3625560"/>
              <a:ext cx="17604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2066760" y="3625560"/>
              <a:ext cx="12564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4270320" y="4230360"/>
              <a:ext cx="27144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5002200" y="4230360"/>
              <a:ext cx="45072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5734080" y="4336920"/>
              <a:ext cx="388800" cy="231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6465960" y="4336920"/>
              <a:ext cx="406440" cy="231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3538440" y="4230360"/>
              <a:ext cx="27144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2805120" y="4230360"/>
              <a:ext cx="27144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2066760" y="4230360"/>
              <a:ext cx="27180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4268880" y="4936680"/>
              <a:ext cx="271440" cy="235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5000760" y="4833720"/>
              <a:ext cx="27144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5732640" y="4833720"/>
              <a:ext cx="27144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6464160" y="4936680"/>
              <a:ext cx="408240" cy="235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3537000" y="4936680"/>
              <a:ext cx="271440" cy="235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2803680" y="4833720"/>
              <a:ext cx="27144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2065320" y="4833720"/>
              <a:ext cx="27144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4289400" y="1599840"/>
              <a:ext cx="385920" cy="5554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5021280" y="1728720"/>
              <a:ext cx="431640" cy="4269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5753160" y="1817280"/>
              <a:ext cx="47160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6485040" y="1831680"/>
              <a:ext cx="495360" cy="323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3557520" y="1728720"/>
              <a:ext cx="250920" cy="4269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2824200" y="1728720"/>
              <a:ext cx="156960" cy="4269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2085840" y="1817280"/>
              <a:ext cx="10656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4287960" y="2314080"/>
              <a:ext cx="387360" cy="444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5019840" y="2420640"/>
              <a:ext cx="27144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5751360" y="2420640"/>
              <a:ext cx="27144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6483240" y="2522160"/>
              <a:ext cx="389160" cy="236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3556080" y="2420640"/>
              <a:ext cx="27144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2822400" y="2420640"/>
              <a:ext cx="27180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2084400" y="2420640"/>
              <a:ext cx="10800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4268880" y="5614920"/>
              <a:ext cx="271440" cy="201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5000760" y="5478120"/>
              <a:ext cx="27144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5732640" y="5478120"/>
              <a:ext cx="27144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>
              <a:off x="6464160" y="5478120"/>
              <a:ext cx="27144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3537000" y="5478120"/>
              <a:ext cx="27144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2803680" y="5478120"/>
              <a:ext cx="27144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2065320" y="5478120"/>
              <a:ext cx="271440" cy="338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1701720" y="1600200"/>
            <a:ext cx="5645160" cy="4538520"/>
            <a:chOff x="1701720" y="1600200"/>
            <a:chExt cx="5645160" cy="4538520"/>
          </a:xfrm>
        </p:grpSpPr>
        <p:sp>
          <p:nvSpPr>
            <p:cNvPr id="461" name=""/>
            <p:cNvSpPr/>
            <p:nvPr/>
          </p:nvSpPr>
          <p:spPr>
            <a:xfrm>
              <a:off x="2068560" y="1600200"/>
              <a:ext cx="0" cy="4400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268880" y="1738080"/>
              <a:ext cx="0" cy="4400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485040" y="1738080"/>
              <a:ext cx="0" cy="4400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817640" y="5817960"/>
              <a:ext cx="55292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701720" y="3965400"/>
              <a:ext cx="55292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706400" y="2179440"/>
              <a:ext cx="5529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2068200" y="1574640"/>
            <a:ext cx="5162760" cy="4243680"/>
            <a:chOff x="2068200" y="1574640"/>
            <a:chExt cx="5162760" cy="4243680"/>
          </a:xfrm>
        </p:grpSpPr>
        <p:sp>
          <p:nvSpPr>
            <p:cNvPr id="468" name=""/>
            <p:cNvSpPr/>
            <p:nvPr/>
          </p:nvSpPr>
          <p:spPr>
            <a:xfrm flipH="1">
              <a:off x="4272120" y="3360600"/>
              <a:ext cx="901440" cy="60480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6485040" y="3537000"/>
              <a:ext cx="745920" cy="42696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4287960" y="1574640"/>
              <a:ext cx="901440" cy="60516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flipH="1">
              <a:off x="4289400" y="5359320"/>
              <a:ext cx="385920" cy="45720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6486480" y="5478480"/>
              <a:ext cx="488880" cy="33984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6498720" y="1828800"/>
              <a:ext cx="731880" cy="35100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2085840" y="3537000"/>
              <a:ext cx="503280" cy="42696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2085480" y="5478480"/>
              <a:ext cx="382680" cy="30780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2068200" y="1871640"/>
              <a:ext cx="382680" cy="30816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216000" y="1927080"/>
            <a:ext cx="14079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Sp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194600" y="4579920"/>
            <a:ext cx="18111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am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Splines Grid &amp; Image Gr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1"/>
          <a:stretch/>
        </p:blipFill>
        <p:spPr>
          <a:xfrm>
            <a:off x="1919160" y="1058760"/>
            <a:ext cx="5316840" cy="5316480"/>
          </a:xfrm>
          <a:prstGeom prst="rect">
            <a:avLst/>
          </a:prstGeom>
          <a:ln w="0">
            <a:noFill/>
          </a:ln>
        </p:spPr>
      </p:pic>
      <p:grpSp>
        <p:nvGrpSpPr>
          <p:cNvPr id="481" name=""/>
          <p:cNvGrpSpPr/>
          <p:nvPr/>
        </p:nvGrpSpPr>
        <p:grpSpPr>
          <a:xfrm>
            <a:off x="1812960" y="928800"/>
            <a:ext cx="5651280" cy="5568840"/>
            <a:chOff x="1812960" y="928800"/>
            <a:chExt cx="5651280" cy="5568840"/>
          </a:xfrm>
        </p:grpSpPr>
        <p:sp>
          <p:nvSpPr>
            <p:cNvPr id="482" name=""/>
            <p:cNvSpPr/>
            <p:nvPr/>
          </p:nvSpPr>
          <p:spPr>
            <a:xfrm>
              <a:off x="4626000" y="928800"/>
              <a:ext cx="0" cy="55688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707080" y="928800"/>
              <a:ext cx="0" cy="55688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935000" y="5877000"/>
              <a:ext cx="552924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812960" y="3767040"/>
              <a:ext cx="552924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833480" y="2720880"/>
              <a:ext cx="552924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833480" y="4821120"/>
              <a:ext cx="552924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533760" y="928800"/>
              <a:ext cx="0" cy="55688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788160" y="928800"/>
              <a:ext cx="0" cy="55688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467080" y="928800"/>
              <a:ext cx="0" cy="55688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812960" y="1676520"/>
              <a:ext cx="552924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Splines Grid &amp; Image Gr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1919160" y="1058760"/>
            <a:ext cx="5316840" cy="5316480"/>
          </a:xfrm>
          <a:prstGeom prst="rect">
            <a:avLst/>
          </a:prstGeom>
          <a:ln w="0">
            <a:noFill/>
          </a:ln>
        </p:spPr>
      </p:pic>
      <p:grpSp>
        <p:nvGrpSpPr>
          <p:cNvPr id="494" name=""/>
          <p:cNvGrpSpPr/>
          <p:nvPr/>
        </p:nvGrpSpPr>
        <p:grpSpPr>
          <a:xfrm>
            <a:off x="2467080" y="1676520"/>
            <a:ext cx="4321080" cy="4200480"/>
            <a:chOff x="2467080" y="1676520"/>
            <a:chExt cx="4321080" cy="4200480"/>
          </a:xfrm>
        </p:grpSpPr>
        <p:sp>
          <p:nvSpPr>
            <p:cNvPr id="495" name=""/>
            <p:cNvSpPr/>
            <p:nvPr/>
          </p:nvSpPr>
          <p:spPr>
            <a:xfrm>
              <a:off x="4626000" y="1676520"/>
              <a:ext cx="0" cy="420048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707080" y="1676520"/>
              <a:ext cx="0" cy="420048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467080" y="5877000"/>
              <a:ext cx="432108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467080" y="3767040"/>
              <a:ext cx="432108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467080" y="2720880"/>
              <a:ext cx="432108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467080" y="4821120"/>
              <a:ext cx="432108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533760" y="1676520"/>
              <a:ext cx="0" cy="420048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788160" y="1676520"/>
              <a:ext cx="0" cy="420048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467080" y="1676520"/>
              <a:ext cx="0" cy="420048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467080" y="1676520"/>
              <a:ext cx="432108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"/>
          <p:cNvSpPr/>
          <p:nvPr/>
        </p:nvSpPr>
        <p:spPr>
          <a:xfrm>
            <a:off x="216000" y="1927080"/>
            <a:ext cx="14079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Sp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Splines Grid &amp; Image Gr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1919160" y="1058760"/>
            <a:ext cx="5316840" cy="531648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3533760" y="2720880"/>
            <a:ext cx="2173320" cy="2100240"/>
          </a:xfrm>
          <a:prstGeom prst="rect">
            <a:avLst/>
          </a:prstGeom>
          <a:solidFill>
            <a:srgbClr val="3366ff"/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2467080" y="1676520"/>
            <a:ext cx="4321080" cy="4200480"/>
            <a:chOff x="2467080" y="1676520"/>
            <a:chExt cx="4321080" cy="4200480"/>
          </a:xfrm>
        </p:grpSpPr>
        <p:sp>
          <p:nvSpPr>
            <p:cNvPr id="510" name=""/>
            <p:cNvSpPr/>
            <p:nvPr/>
          </p:nvSpPr>
          <p:spPr>
            <a:xfrm>
              <a:off x="4626000" y="1676520"/>
              <a:ext cx="0" cy="420048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707080" y="1676520"/>
              <a:ext cx="0" cy="420048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467080" y="5877000"/>
              <a:ext cx="432108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467080" y="3767040"/>
              <a:ext cx="432108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467080" y="2720880"/>
              <a:ext cx="432108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467080" y="4821120"/>
              <a:ext cx="432108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533760" y="1676520"/>
              <a:ext cx="0" cy="420048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788160" y="1676520"/>
              <a:ext cx="0" cy="420048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467080" y="1676520"/>
              <a:ext cx="0" cy="420048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467080" y="1676520"/>
              <a:ext cx="432108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"/>
          <p:cNvSpPr/>
          <p:nvPr/>
        </p:nvSpPr>
        <p:spPr>
          <a:xfrm>
            <a:off x="216000" y="1927080"/>
            <a:ext cx="14079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Sp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91960" y="4240080"/>
            <a:ext cx="13845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Val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System con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only image-to-image: model-to-model, model-to-i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ves resampling and therefore interpo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ar: Rigid, Similarity, Aff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ormable: TPS, EBS, B-Sp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Splines Grid &amp; Image Gr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2836800" y="1932120"/>
            <a:ext cx="3471840" cy="3471840"/>
          </a:xfrm>
          <a:prstGeom prst="rect">
            <a:avLst/>
          </a:prstGeom>
          <a:ln w="0">
            <a:noFill/>
          </a:ln>
        </p:spPr>
      </p:pic>
      <p:grpSp>
        <p:nvGrpSpPr>
          <p:cNvPr id="524" name=""/>
          <p:cNvGrpSpPr/>
          <p:nvPr/>
        </p:nvGrpSpPr>
        <p:grpSpPr>
          <a:xfrm>
            <a:off x="1795320" y="942840"/>
            <a:ext cx="5551200" cy="5571720"/>
            <a:chOff x="1795320" y="942840"/>
            <a:chExt cx="5551200" cy="5571720"/>
          </a:xfrm>
        </p:grpSpPr>
        <p:sp>
          <p:nvSpPr>
            <p:cNvPr id="525" name=""/>
            <p:cNvSpPr/>
            <p:nvPr/>
          </p:nvSpPr>
          <p:spPr>
            <a:xfrm>
              <a:off x="1916640" y="5424480"/>
              <a:ext cx="542988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795320" y="3678480"/>
              <a:ext cx="542988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814760" y="2811240"/>
              <a:ext cx="543312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814760" y="4548960"/>
              <a:ext cx="543312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795320" y="1946880"/>
              <a:ext cx="542988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0" name=""/>
            <p:cNvGrpSpPr/>
            <p:nvPr/>
          </p:nvGrpSpPr>
          <p:grpSpPr>
            <a:xfrm>
              <a:off x="2015640" y="942840"/>
              <a:ext cx="5085000" cy="5571720"/>
              <a:chOff x="2015640" y="942840"/>
              <a:chExt cx="5085000" cy="5571720"/>
            </a:xfrm>
          </p:grpSpPr>
          <p:sp>
            <p:nvSpPr>
              <p:cNvPr id="531" name=""/>
              <p:cNvSpPr/>
              <p:nvPr/>
            </p:nvSpPr>
            <p:spPr>
              <a:xfrm>
                <a:off x="4592520" y="942840"/>
                <a:ext cx="0" cy="551772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456160" y="942840"/>
                <a:ext cx="0" cy="551772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3718800" y="942840"/>
                <a:ext cx="0" cy="551772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321600" y="942840"/>
                <a:ext cx="0" cy="551772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866320" y="942840"/>
                <a:ext cx="0" cy="551772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100640" y="996840"/>
                <a:ext cx="0" cy="551772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015640" y="942840"/>
                <a:ext cx="0" cy="551772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8" name=""/>
            <p:cNvSpPr/>
            <p:nvPr/>
          </p:nvSpPr>
          <p:spPr>
            <a:xfrm>
              <a:off x="1814760" y="1079280"/>
              <a:ext cx="543168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916640" y="6309720"/>
              <a:ext cx="542988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216000" y="1927080"/>
            <a:ext cx="14079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Sp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Splines Grid &amp; Image Gr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2836800" y="1932120"/>
            <a:ext cx="3471840" cy="347184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2867040" y="1947960"/>
            <a:ext cx="3454560" cy="3476520"/>
          </a:xfrm>
          <a:prstGeom prst="rect">
            <a:avLst/>
          </a:prstGeom>
          <a:solidFill>
            <a:srgbClr val="3366ff"/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1795320" y="942840"/>
            <a:ext cx="5551200" cy="5571720"/>
            <a:chOff x="1795320" y="942840"/>
            <a:chExt cx="5551200" cy="5571720"/>
          </a:xfrm>
        </p:grpSpPr>
        <p:sp>
          <p:nvSpPr>
            <p:cNvPr id="545" name=""/>
            <p:cNvSpPr/>
            <p:nvPr/>
          </p:nvSpPr>
          <p:spPr>
            <a:xfrm>
              <a:off x="1916640" y="5424480"/>
              <a:ext cx="542988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795320" y="3678480"/>
              <a:ext cx="542988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814760" y="2811240"/>
              <a:ext cx="543312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814760" y="4548960"/>
              <a:ext cx="543312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795320" y="1946880"/>
              <a:ext cx="542988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0" name=""/>
            <p:cNvGrpSpPr/>
            <p:nvPr/>
          </p:nvGrpSpPr>
          <p:grpSpPr>
            <a:xfrm>
              <a:off x="2015640" y="942840"/>
              <a:ext cx="5085000" cy="5571720"/>
              <a:chOff x="2015640" y="942840"/>
              <a:chExt cx="5085000" cy="5571720"/>
            </a:xfrm>
          </p:grpSpPr>
          <p:sp>
            <p:nvSpPr>
              <p:cNvPr id="551" name=""/>
              <p:cNvSpPr/>
              <p:nvPr/>
            </p:nvSpPr>
            <p:spPr>
              <a:xfrm>
                <a:off x="4592520" y="942840"/>
                <a:ext cx="0" cy="551772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456160" y="942840"/>
                <a:ext cx="0" cy="551772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718800" y="942840"/>
                <a:ext cx="0" cy="551772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6321600" y="942840"/>
                <a:ext cx="0" cy="551772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2866320" y="942840"/>
                <a:ext cx="0" cy="551772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100640" y="996840"/>
                <a:ext cx="0" cy="551772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2015640" y="942840"/>
                <a:ext cx="0" cy="551772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8" name=""/>
            <p:cNvSpPr/>
            <p:nvPr/>
          </p:nvSpPr>
          <p:spPr>
            <a:xfrm>
              <a:off x="1814760" y="1079280"/>
              <a:ext cx="543168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916640" y="6309720"/>
              <a:ext cx="542988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"/>
          <p:cNvSpPr/>
          <p:nvPr/>
        </p:nvSpPr>
        <p:spPr>
          <a:xfrm>
            <a:off x="216000" y="1927080"/>
            <a:ext cx="14079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Sp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16000" y="4114800"/>
            <a:ext cx="146052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Val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Spline Regis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ual Information (Mat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LBFGSBOptim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ain Deformation: constrain the optimizer by b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cer De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li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ad Data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fine Reg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Spline Deformable Reg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er Functions Vis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ading Data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7315200" cy="452304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/>
          <p:nvPr/>
        </p:nvSpPr>
        <p:spPr>
          <a:xfrm>
            <a:off x="380880" y="1219320"/>
            <a:ext cx="990720" cy="838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7848720" cy="4852800"/>
          </a:xfrm>
          <a:prstGeom prst="rect">
            <a:avLst/>
          </a:prstGeom>
          <a:ln w="0">
            <a:noFill/>
          </a:ln>
        </p:spPr>
      </p:pic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fine Regis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143000" y="1219320"/>
            <a:ext cx="1828800" cy="20574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6934320" cy="4818240"/>
          </a:xfrm>
          <a:prstGeom prst="rect">
            <a:avLst/>
          </a:prstGeom>
          <a:ln w="0">
            <a:noFill/>
          </a:ln>
        </p:spPr>
      </p:pic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fine Regis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85800" y="1828800"/>
            <a:ext cx="2133720" cy="2819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933960" cy="4818240"/>
          </a:xfrm>
          <a:prstGeom prst="rect">
            <a:avLst/>
          </a:prstGeom>
          <a:ln w="0">
            <a:noFill/>
          </a:ln>
        </p:spPr>
      </p:pic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ormable Regis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1295280"/>
            <a:ext cx="2819520" cy="26672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010280" cy="4871880"/>
          </a:xfrm>
          <a:prstGeom prst="rect">
            <a:avLst/>
          </a:prstGeom>
          <a:ln w="0">
            <a:noFill/>
          </a:ln>
        </p:spPr>
      </p:pic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ormable Regis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990720" y="1752480"/>
            <a:ext cx="2133360" cy="3048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629400" cy="4606920"/>
          </a:xfrm>
          <a:prstGeom prst="rect">
            <a:avLst/>
          </a:prstGeom>
          <a:ln w="0">
            <a:noFill/>
          </a:ln>
        </p:spPr>
      </p:pic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justing Transfer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523880" y="1447920"/>
            <a:ext cx="990720" cy="228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295280" y="3352680"/>
            <a:ext cx="1676520" cy="228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143000" y="3048120"/>
            <a:ext cx="2057400" cy="228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609480" y="1219320"/>
            <a:ext cx="2358360" cy="2453400"/>
            <a:chOff x="609480" y="1219320"/>
            <a:chExt cx="2358360" cy="2453400"/>
          </a:xfrm>
        </p:grpSpPr>
        <p:sp>
          <p:nvSpPr>
            <p:cNvPr id="50" name=""/>
            <p:cNvSpPr/>
            <p:nvPr/>
          </p:nvSpPr>
          <p:spPr>
            <a:xfrm>
              <a:off x="767520" y="3359520"/>
              <a:ext cx="195624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ixed Image Gr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831960" y="1365120"/>
              <a:ext cx="1969560" cy="1911960"/>
              <a:chOff x="831960" y="1365120"/>
              <a:chExt cx="1969560" cy="1911960"/>
            </a:xfrm>
          </p:grpSpPr>
          <p:sp>
            <p:nvSpPr>
              <p:cNvPr id="52" name=""/>
              <p:cNvSpPr/>
              <p:nvPr/>
            </p:nvSpPr>
            <p:spPr>
              <a:xfrm flipV="1">
                <a:off x="978120" y="1365120"/>
                <a:ext cx="0" cy="1911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48520" y="3165840"/>
                <a:ext cx="1953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" name=""/>
              <p:cNvGrpSpPr/>
              <p:nvPr/>
            </p:nvGrpSpPr>
            <p:grpSpPr>
              <a:xfrm>
                <a:off x="831960" y="1638720"/>
                <a:ext cx="1849680" cy="1284120"/>
                <a:chOff x="831960" y="1638720"/>
                <a:chExt cx="1849680" cy="128412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831960" y="2922840"/>
                  <a:ext cx="1849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831960" y="2665080"/>
                  <a:ext cx="1849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831960" y="2409120"/>
                  <a:ext cx="1849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831960" y="2151360"/>
                  <a:ext cx="1849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831960" y="1895040"/>
                  <a:ext cx="1849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831960" y="1638720"/>
                  <a:ext cx="1849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" name=""/>
              <p:cNvGrpSpPr/>
              <p:nvPr/>
            </p:nvGrpSpPr>
            <p:grpSpPr>
              <a:xfrm>
                <a:off x="1231560" y="1473120"/>
                <a:ext cx="1284120" cy="1777680"/>
                <a:chOff x="1231560" y="1473120"/>
                <a:chExt cx="1284120" cy="177768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1231560" y="1473120"/>
                  <a:ext cx="0" cy="177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489320" y="1473120"/>
                  <a:ext cx="0" cy="177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1745280" y="1473120"/>
                  <a:ext cx="0" cy="177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2003040" y="1473120"/>
                  <a:ext cx="0" cy="177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2259360" y="1473120"/>
                  <a:ext cx="0" cy="177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2515680" y="1473120"/>
                  <a:ext cx="0" cy="177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" name=""/>
            <p:cNvSpPr/>
            <p:nvPr/>
          </p:nvSpPr>
          <p:spPr>
            <a:xfrm>
              <a:off x="609480" y="1219320"/>
              <a:ext cx="3160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736720" y="3213360"/>
              <a:ext cx="23112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701640" y="3733920"/>
            <a:ext cx="2563560" cy="2443680"/>
            <a:chOff x="701640" y="3733920"/>
            <a:chExt cx="2563560" cy="2443680"/>
          </a:xfrm>
        </p:grpSpPr>
        <p:grpSp>
          <p:nvGrpSpPr>
            <p:cNvPr id="71" name=""/>
            <p:cNvGrpSpPr/>
            <p:nvPr/>
          </p:nvGrpSpPr>
          <p:grpSpPr>
            <a:xfrm>
              <a:off x="938160" y="3889080"/>
              <a:ext cx="1966680" cy="1730520"/>
              <a:chOff x="938160" y="3889080"/>
              <a:chExt cx="1966680" cy="1730520"/>
            </a:xfrm>
          </p:grpSpPr>
          <p:sp>
            <p:nvSpPr>
              <p:cNvPr id="72" name=""/>
              <p:cNvSpPr/>
              <p:nvPr/>
            </p:nvSpPr>
            <p:spPr>
              <a:xfrm flipV="1">
                <a:off x="1099800" y="3889080"/>
                <a:ext cx="0" cy="173052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938160" y="5470560"/>
                <a:ext cx="196668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701640" y="3733920"/>
              <a:ext cx="33624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970000" y="5308560"/>
              <a:ext cx="2952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41240" y="5645160"/>
              <a:ext cx="241596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ixed Image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hysical Coordin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6113520" y="4387680"/>
            <a:ext cx="2342160" cy="2091240"/>
            <a:chOff x="6113520" y="4387680"/>
            <a:chExt cx="2342160" cy="2091240"/>
          </a:xfrm>
        </p:grpSpPr>
        <p:grpSp>
          <p:nvGrpSpPr>
            <p:cNvPr id="78" name=""/>
            <p:cNvGrpSpPr/>
            <p:nvPr/>
          </p:nvGrpSpPr>
          <p:grpSpPr>
            <a:xfrm>
              <a:off x="6325560" y="4496760"/>
              <a:ext cx="1765800" cy="1212480"/>
              <a:chOff x="6325560" y="4496760"/>
              <a:chExt cx="1765800" cy="1212480"/>
            </a:xfrm>
          </p:grpSpPr>
          <p:sp>
            <p:nvSpPr>
              <p:cNvPr id="79" name=""/>
              <p:cNvSpPr/>
              <p:nvPr/>
            </p:nvSpPr>
            <p:spPr>
              <a:xfrm flipV="1">
                <a:off x="6470640" y="4496760"/>
                <a:ext cx="0" cy="121248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325560" y="5604480"/>
                <a:ext cx="1765800" cy="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6113520" y="4387680"/>
              <a:ext cx="4086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y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0440" y="5491440"/>
              <a:ext cx="34524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x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148800" y="5727240"/>
              <a:ext cx="2169360" cy="75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oving Image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hysical Coordin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6172200" y="1143000"/>
            <a:ext cx="2222280" cy="2323440"/>
            <a:chOff x="6172200" y="1143000"/>
            <a:chExt cx="2222280" cy="2323440"/>
          </a:xfrm>
        </p:grpSpPr>
        <p:sp>
          <p:nvSpPr>
            <p:cNvPr id="85" name=""/>
            <p:cNvSpPr/>
            <p:nvPr/>
          </p:nvSpPr>
          <p:spPr>
            <a:xfrm>
              <a:off x="6172200" y="3153240"/>
              <a:ext cx="21132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oving Image Gr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6381000" y="1280160"/>
              <a:ext cx="1849680" cy="1795320"/>
              <a:chOff x="6381000" y="1280160"/>
              <a:chExt cx="1849680" cy="1795320"/>
            </a:xfrm>
          </p:grpSpPr>
          <p:sp>
            <p:nvSpPr>
              <p:cNvPr id="87" name=""/>
              <p:cNvSpPr/>
              <p:nvPr/>
            </p:nvSpPr>
            <p:spPr>
              <a:xfrm flipV="1">
                <a:off x="6518160" y="1280160"/>
                <a:ext cx="0" cy="1795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396480" y="2971080"/>
                <a:ext cx="1834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" name=""/>
              <p:cNvGrpSpPr/>
              <p:nvPr/>
            </p:nvGrpSpPr>
            <p:grpSpPr>
              <a:xfrm>
                <a:off x="6381000" y="1536840"/>
                <a:ext cx="1737000" cy="1205640"/>
                <a:chOff x="6381000" y="1536840"/>
                <a:chExt cx="1737000" cy="120564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6381000" y="2742480"/>
                  <a:ext cx="1737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6381000" y="2500560"/>
                  <a:ext cx="1737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6381000" y="2260080"/>
                  <a:ext cx="1737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6381000" y="2018160"/>
                  <a:ext cx="1737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6381000" y="1777320"/>
                  <a:ext cx="1737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6381000" y="1536840"/>
                  <a:ext cx="1737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6756840" y="1381680"/>
                <a:ext cx="1206000" cy="1669320"/>
                <a:chOff x="6756840" y="1381680"/>
                <a:chExt cx="1206000" cy="166932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6756840" y="1381680"/>
                  <a:ext cx="0" cy="166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6998760" y="1381680"/>
                  <a:ext cx="0" cy="166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7239240" y="1381680"/>
                  <a:ext cx="0" cy="166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7481520" y="1381680"/>
                  <a:ext cx="0" cy="166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7722000" y="1381680"/>
                  <a:ext cx="0" cy="166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7962840" y="1381680"/>
                  <a:ext cx="0" cy="166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" name=""/>
            <p:cNvSpPr/>
            <p:nvPr/>
          </p:nvSpPr>
          <p:spPr>
            <a:xfrm>
              <a:off x="6172200" y="1143000"/>
              <a:ext cx="2970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63360" y="3016080"/>
              <a:ext cx="23112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1644480" y="3809880"/>
            <a:ext cx="414360" cy="666720"/>
          </a:xfrm>
          <a:prstGeom prst="downArrow">
            <a:avLst>
              <a:gd name="adj1" fmla="val 50000"/>
              <a:gd name="adj2" fmla="val 40226"/>
            </a:avLst>
          </a:prstGeom>
          <a:solidFill>
            <a:srgbClr val="66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7115040" y="3828960"/>
            <a:ext cx="441360" cy="666720"/>
          </a:xfrm>
          <a:prstGeom prst="downArrow">
            <a:avLst>
              <a:gd name="adj1" fmla="val 50000"/>
              <a:gd name="adj2" fmla="val 37765"/>
            </a:avLst>
          </a:prstGeom>
          <a:solidFill>
            <a:srgbClr val="66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429000" y="4419360"/>
            <a:ext cx="2056680" cy="714960"/>
            <a:chOff x="3429000" y="4419360"/>
            <a:chExt cx="2056680" cy="714960"/>
          </a:xfrm>
        </p:grpSpPr>
        <p:sp>
          <p:nvSpPr>
            <p:cNvPr id="108" name=""/>
            <p:cNvSpPr/>
            <p:nvPr/>
          </p:nvSpPr>
          <p:spPr>
            <a:xfrm>
              <a:off x="3429000" y="4914720"/>
              <a:ext cx="1983600" cy="21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pace Transfor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16200000">
              <a:off x="4233600" y="3630600"/>
              <a:ext cx="463320" cy="2040840"/>
            </a:xfrm>
            <a:prstGeom prst="downArrow">
              <a:avLst>
                <a:gd name="adj1" fmla="val 39519"/>
                <a:gd name="adj2" fmla="val 78858"/>
              </a:avLst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6598440" y="4468680"/>
            <a:ext cx="1330920" cy="1083960"/>
            <a:chOff x="6598440" y="4468680"/>
            <a:chExt cx="1330920" cy="1083960"/>
          </a:xfrm>
        </p:grpSpPr>
        <p:sp>
          <p:nvSpPr>
            <p:cNvPr id="111" name=""/>
            <p:cNvSpPr/>
            <p:nvPr/>
          </p:nvSpPr>
          <p:spPr>
            <a:xfrm flipH="1" flipV="1">
              <a:off x="6598440" y="4468680"/>
              <a:ext cx="335160" cy="10839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6813000" y="5142600"/>
              <a:ext cx="1116360" cy="344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1422360" y="1866960"/>
            <a:ext cx="177840" cy="174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122560" y="5091120"/>
            <a:ext cx="177840" cy="174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90480" y="2098800"/>
            <a:ext cx="1449360" cy="2955960"/>
          </a:xfrm>
          <a:custGeom>
            <a:avLst/>
            <a:gdLst/>
            <a:ahLst/>
            <a:rect l="l" t="t" r="r" b="b"/>
            <a:pathLst>
              <a:path w="913" h="1862">
                <a:moveTo>
                  <a:pt x="462" y="0"/>
                </a:moveTo>
                <a:cubicBezTo>
                  <a:pt x="288" y="388"/>
                  <a:pt x="0" y="332"/>
                  <a:pt x="7" y="768"/>
                </a:cubicBezTo>
                <a:cubicBezTo>
                  <a:pt x="14" y="1204"/>
                  <a:pt x="824" y="1451"/>
                  <a:pt x="913" y="1862"/>
                </a:cubicBezTo>
              </a:path>
            </a:pathLst>
          </a:custGeom>
          <a:noFill/>
          <a:ln w="19080">
            <a:solidFill>
              <a:srgbClr val="3333cc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62720" y="4716360"/>
            <a:ext cx="119160" cy="12564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332840" y="4689360"/>
            <a:ext cx="177480" cy="174600"/>
          </a:xfrm>
          <a:prstGeom prst="ellipse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352600" y="4862520"/>
            <a:ext cx="4969080" cy="1143000"/>
          </a:xfrm>
          <a:custGeom>
            <a:avLst/>
            <a:gdLst/>
            <a:ahLst/>
            <a:rect l="l" t="t" r="r" b="b"/>
            <a:pathLst>
              <a:path w="3130" h="720">
                <a:moveTo>
                  <a:pt x="0" y="205"/>
                </a:moveTo>
                <a:cubicBezTo>
                  <a:pt x="611" y="268"/>
                  <a:pt x="585" y="656"/>
                  <a:pt x="1344" y="688"/>
                </a:cubicBezTo>
                <a:cubicBezTo>
                  <a:pt x="2103" y="720"/>
                  <a:pt x="2616" y="411"/>
                  <a:pt x="3130" y="0"/>
                </a:cubicBezTo>
              </a:path>
            </a:pathLst>
          </a:custGeom>
          <a:noFill/>
          <a:ln w="19080">
            <a:solidFill>
              <a:srgbClr val="3333cc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48560" y="2425680"/>
            <a:ext cx="177840" cy="174600"/>
          </a:xfrm>
          <a:prstGeom prst="ellipse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48480" y="2573280"/>
            <a:ext cx="1282680" cy="2139840"/>
          </a:xfrm>
          <a:custGeom>
            <a:avLst/>
            <a:gdLst/>
            <a:ahLst/>
            <a:rect l="l" t="t" r="r" b="b"/>
            <a:pathLst>
              <a:path w="808" h="1348">
                <a:moveTo>
                  <a:pt x="0" y="1348"/>
                </a:moveTo>
                <a:cubicBezTo>
                  <a:pt x="358" y="996"/>
                  <a:pt x="702" y="1192"/>
                  <a:pt x="755" y="741"/>
                </a:cubicBezTo>
                <a:cubicBezTo>
                  <a:pt x="808" y="290"/>
                  <a:pt x="461" y="121"/>
                  <a:pt x="206" y="0"/>
                </a:cubicBezTo>
              </a:path>
            </a:pathLst>
          </a:custGeom>
          <a:noFill/>
          <a:ln w="19080">
            <a:solidFill>
              <a:srgbClr val="ff66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6200000">
            <a:off x="4462200" y="1231920"/>
            <a:ext cx="393840" cy="1866600"/>
          </a:xfrm>
          <a:prstGeom prst="downArrow">
            <a:avLst>
              <a:gd name="adj1" fmla="val 54037"/>
              <a:gd name="adj2" fmla="val 71750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352680" y="1913040"/>
            <a:ext cx="1828800" cy="14968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ordinate System Conver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673280" y="5938920"/>
            <a:ext cx="5600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Images provided as part of the project: “Retrospective Image Registration Evaluation”,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NIH, Project No. 8R01EB002124-03, Principal Investigator, J. Michael Fitzpatrick, Vanderbilt University, Nashville, T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65360" y="1295280"/>
            <a:ext cx="4216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ages from the same pat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565200" y="1778040"/>
            <a:ext cx="2395440" cy="3803760"/>
            <a:chOff x="565200" y="1778040"/>
            <a:chExt cx="2395440" cy="3803760"/>
          </a:xfrm>
        </p:grpSpPr>
        <p:pic>
          <p:nvPicPr>
            <p:cNvPr id="127" name="" descr=""/>
            <p:cNvPicPr/>
            <p:nvPr/>
          </p:nvPicPr>
          <p:blipFill>
            <a:blip r:embed="rId1"/>
            <a:srcRect l="19594" t="16495" r="20622" b="9973"/>
            <a:stretch/>
          </p:blipFill>
          <p:spPr>
            <a:xfrm>
              <a:off x="565200" y="2161800"/>
              <a:ext cx="2395440" cy="29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577080" y="5195520"/>
              <a:ext cx="238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256 x 256 pixe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171440" y="1778040"/>
              <a:ext cx="119736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RI-T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09880" y="3123720"/>
            <a:ext cx="2025360" cy="752760"/>
            <a:chOff x="3809880" y="3123720"/>
            <a:chExt cx="2025360" cy="752760"/>
          </a:xfrm>
        </p:grpSpPr>
        <p:sp>
          <p:nvSpPr>
            <p:cNvPr id="131" name=""/>
            <p:cNvSpPr/>
            <p:nvPr/>
          </p:nvSpPr>
          <p:spPr>
            <a:xfrm>
              <a:off x="3809880" y="3656880"/>
              <a:ext cx="1953000" cy="21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caling Transfor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16200000">
              <a:off x="4581000" y="2368080"/>
              <a:ext cx="498600" cy="2009520"/>
            </a:xfrm>
            <a:prstGeom prst="downArrow">
              <a:avLst>
                <a:gd name="adj1" fmla="val 39519"/>
                <a:gd name="adj2" fmla="val 72154"/>
              </a:avLst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329880" y="1978200"/>
            <a:ext cx="2381400" cy="3513600"/>
            <a:chOff x="6329880" y="1978200"/>
            <a:chExt cx="2381400" cy="3513600"/>
          </a:xfrm>
        </p:grpSpPr>
        <p:graphicFrame>
          <p:nvGraphicFramePr>
            <p:cNvPr id="134" name=""/>
            <p:cNvGraphicFramePr/>
            <p:nvPr/>
          </p:nvGraphicFramePr>
          <p:xfrm>
            <a:off x="6796080" y="2381400"/>
            <a:ext cx="1434960" cy="2116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3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796080" y="2381400"/>
                      <a:ext cx="1434960" cy="211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6" name=""/>
            <p:cNvSpPr/>
            <p:nvPr/>
          </p:nvSpPr>
          <p:spPr>
            <a:xfrm>
              <a:off x="6329880" y="5105520"/>
              <a:ext cx="238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128 x 128 pixe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118640" y="1978200"/>
              <a:ext cx="7722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E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ing Fa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425520" y="1219320"/>
            <a:ext cx="8370720" cy="5267160"/>
            <a:chOff x="425520" y="1219320"/>
            <a:chExt cx="8370720" cy="5267160"/>
          </a:xfrm>
        </p:grpSpPr>
        <p:sp>
          <p:nvSpPr>
            <p:cNvPr id="140" name=""/>
            <p:cNvSpPr/>
            <p:nvPr/>
          </p:nvSpPr>
          <p:spPr>
            <a:xfrm>
              <a:off x="425520" y="1219320"/>
              <a:ext cx="8370720" cy="526716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317600" y="1647360"/>
              <a:ext cx="6639120" cy="3620880"/>
            </a:xfrm>
            <a:prstGeom prst="rect">
              <a:avLst/>
            </a:prstGeom>
            <a:solidFill>
              <a:srgbClr val="000000"/>
            </a:solidFill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0" rIns="457200" tIns="457200" bIns="457200" anchor="ctr">
              <a:sp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Comic Sans MS"/>
                  <a:ea typeface="ＭＳ Ｐゴシック"/>
                </a:rPr>
                <a:t>I will not register images in pixel spa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Comic Sans MS"/>
                  <a:ea typeface="ＭＳ Ｐゴシック"/>
                </a:rPr>
                <a:t>I will not register images in pixel spa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Comic Sans MS"/>
                  <a:ea typeface="ＭＳ Ｐゴシック"/>
                </a:rPr>
                <a:t>I will not register images in pixel spa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Comic Sans MS"/>
                  <a:ea typeface="ＭＳ Ｐゴシック"/>
                </a:rPr>
                <a:t>I will not register images in pixel spa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Comic Sans MS"/>
                  <a:ea typeface="ＭＳ Ｐゴシック"/>
                </a:rPr>
                <a:t>I will not register images in pixel spa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Comic Sans MS"/>
                  <a:ea typeface="ＭＳ Ｐゴシック"/>
                </a:rPr>
                <a:t>I will not register images in pi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6070320" y="3982680"/>
              <a:ext cx="1385640" cy="2115720"/>
              <a:chOff x="6070320" y="3982680"/>
              <a:chExt cx="1385640" cy="2115720"/>
            </a:xfrm>
          </p:grpSpPr>
          <p:pic>
            <p:nvPicPr>
              <p:cNvPr id="143" name="" descr=""/>
              <p:cNvPicPr/>
              <p:nvPr/>
            </p:nvPicPr>
            <p:blipFill>
              <a:blip r:embed="rId1"/>
              <a:stretch/>
            </p:blipFill>
            <p:spPr>
              <a:xfrm flipH="1">
                <a:off x="6070320" y="3982680"/>
                <a:ext cx="1385640" cy="192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" name=""/>
              <p:cNvSpPr/>
              <p:nvPr/>
            </p:nvSpPr>
            <p:spPr>
              <a:xfrm>
                <a:off x="6298920" y="4845960"/>
                <a:ext cx="145800" cy="2268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375240" y="5455800"/>
                <a:ext cx="380520" cy="642600"/>
              </a:xfrm>
              <a:prstGeom prst="rect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 rot="1237200">
              <a:off x="7002000" y="3939840"/>
              <a:ext cx="301680" cy="607680"/>
            </a:xfrm>
            <a:prstGeom prst="triangle">
              <a:avLst>
                <a:gd name="adj" fmla="val 61074"/>
              </a:avLst>
            </a:prstGeom>
            <a:solidFill>
              <a:srgbClr val="993300"/>
            </a:solidFill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I will not 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135160" y="1981080"/>
            <a:ext cx="6399360" cy="4038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1480" y="2695680"/>
            <a:ext cx="1362240" cy="108252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x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1880" y="4311720"/>
            <a:ext cx="1362240" cy="112068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1842840" y="3101760"/>
            <a:ext cx="4534200" cy="1630080"/>
            <a:chOff x="1842840" y="3101760"/>
            <a:chExt cx="4534200" cy="1630080"/>
          </a:xfrm>
        </p:grpSpPr>
        <p:sp>
          <p:nvSpPr>
            <p:cNvPr id="152" name=""/>
            <p:cNvSpPr/>
            <p:nvPr/>
          </p:nvSpPr>
          <p:spPr>
            <a:xfrm>
              <a:off x="4894200" y="3367080"/>
              <a:ext cx="1482840" cy="747720"/>
            </a:xfrm>
            <a:custGeom>
              <a:avLst/>
              <a:gdLst>
                <a:gd name="textAreaLeft" fmla="*/ 0 w 1482840"/>
                <a:gd name="textAreaRight" fmla="*/ 1483200 w 1482840"/>
                <a:gd name="textAreaTop" fmla="*/ 0 h 747720"/>
                <a:gd name="textAreaBottom" fmla="*/ 748080 h 74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etr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3" name=""/>
            <p:cNvCxnSpPr>
              <a:stCxn id="149" idx="5"/>
              <a:endCxn id="152" idx="0"/>
            </p:cNvCxnSpPr>
            <p:nvPr/>
          </p:nvCxnSpPr>
          <p:spPr>
            <a:xfrm>
              <a:off x="1882440" y="3101760"/>
              <a:ext cx="3567960" cy="24660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" name=""/>
            <p:cNvCxnSpPr>
              <a:stCxn id="150" idx="5"/>
              <a:endCxn id="155" idx="1"/>
            </p:cNvCxnSpPr>
            <p:nvPr/>
          </p:nvCxnSpPr>
          <p:spPr>
            <a:xfrm flipV="1">
              <a:off x="1842840" y="4301280"/>
              <a:ext cx="834120" cy="430920"/>
            </a:xfrm>
            <a:prstGeom prst="bentConnector3">
              <a:avLst>
                <a:gd name="adj1" fmla="val 4987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6" name=""/>
            <p:cNvCxnSpPr>
              <a:stCxn id="155" idx="3"/>
              <a:endCxn id="152" idx="1"/>
            </p:cNvCxnSpPr>
            <p:nvPr/>
          </p:nvCxnSpPr>
          <p:spPr>
            <a:xfrm flipV="1">
              <a:off x="4474800" y="3741480"/>
              <a:ext cx="400680" cy="56088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57" name=""/>
          <p:cNvGrpSpPr/>
          <p:nvPr/>
        </p:nvGrpSpPr>
        <p:grpSpPr>
          <a:xfrm>
            <a:off x="2695680" y="4002120"/>
            <a:ext cx="1760400" cy="1681200"/>
            <a:chOff x="2695680" y="4002120"/>
            <a:chExt cx="1760400" cy="1681200"/>
          </a:xfrm>
        </p:grpSpPr>
        <p:sp>
          <p:nvSpPr>
            <p:cNvPr id="158" name=""/>
            <p:cNvSpPr/>
            <p:nvPr/>
          </p:nvSpPr>
          <p:spPr>
            <a:xfrm>
              <a:off x="2695680" y="5122800"/>
              <a:ext cx="1760400" cy="560520"/>
            </a:xfrm>
            <a:prstGeom prst="ellipse">
              <a:avLst/>
            </a:prstGeom>
            <a:solidFill>
              <a:srgbClr val="00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ransfor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95680" y="4002120"/>
              <a:ext cx="1760400" cy="598320"/>
            </a:xfrm>
            <a:prstGeom prst="octagon">
              <a:avLst>
                <a:gd name="adj" fmla="val 29287"/>
              </a:avLst>
            </a:prstGeom>
            <a:solidFill>
              <a:srgbClr val="e6dcf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nterpolat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9" name=""/>
            <p:cNvCxnSpPr>
              <a:stCxn id="158" idx="0"/>
              <a:endCxn id="155" idx="2"/>
            </p:cNvCxnSpPr>
            <p:nvPr/>
          </p:nvCxnSpPr>
          <p:spPr>
            <a:xfrm flipV="1">
              <a:off x="3576240" y="4618800"/>
              <a:ext cx="1080" cy="48492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60" name=""/>
          <p:cNvGrpSpPr/>
          <p:nvPr/>
        </p:nvGrpSpPr>
        <p:grpSpPr>
          <a:xfrm>
            <a:off x="4474800" y="3367080"/>
            <a:ext cx="3735720" cy="2036880"/>
            <a:chOff x="4474800" y="3367080"/>
            <a:chExt cx="3735720" cy="2036880"/>
          </a:xfrm>
        </p:grpSpPr>
        <p:cxnSp>
          <p:nvCxnSpPr>
            <p:cNvPr id="161" name=""/>
            <p:cNvCxnSpPr>
              <a:stCxn id="152" idx="2"/>
              <a:endCxn id="162" idx="1"/>
            </p:cNvCxnSpPr>
            <p:nvPr/>
          </p:nvCxnSpPr>
          <p:spPr>
            <a:xfrm>
              <a:off x="6395760" y="3741480"/>
              <a:ext cx="246600" cy="108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2" name=""/>
            <p:cNvSpPr/>
            <p:nvPr/>
          </p:nvSpPr>
          <p:spPr>
            <a:xfrm>
              <a:off x="6661080" y="3367080"/>
              <a:ext cx="1320840" cy="74772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ptimiz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3" name=""/>
            <p:cNvCxnSpPr>
              <a:stCxn id="162" idx="3"/>
              <a:endCxn id="158" idx="6"/>
            </p:cNvCxnSpPr>
            <p:nvPr/>
          </p:nvCxnSpPr>
          <p:spPr>
            <a:xfrm flipH="1">
              <a:off x="4474800" y="3741480"/>
              <a:ext cx="3526560" cy="1662840"/>
            </a:xfrm>
            <a:prstGeom prst="bentConnector3">
              <a:avLst>
                <a:gd name="adj1" fmla="val -594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64" name=""/>
          <p:cNvSpPr/>
          <p:nvPr/>
        </p:nvSpPr>
        <p:spPr>
          <a:xfrm>
            <a:off x="3737520" y="2286000"/>
            <a:ext cx="29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ration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Fra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127960" y="1865160"/>
            <a:ext cx="513216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principle the denomination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ＭＳ Ｐゴシック"/>
              </a:rPr>
              <a:t>Fix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mage &amp;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ＭＳ Ｐゴシック"/>
              </a:rPr>
              <a:t>Mov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arbit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600200" y="3886200"/>
            <a:ext cx="6248520" cy="21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practice th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ＭＳ Ｐゴシック"/>
              </a:rPr>
              <a:t>mov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the one that will be resampl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o th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ＭＳ Ｐゴシック"/>
              </a:rPr>
              <a:t>fix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ordinat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lecting Moving &amp; Fixed Im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Initi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arse-to-fine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er of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order moments  (principal ax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ign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tual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ual dependence between pixel values of im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hist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6T08:40:53Z</dcterms:created>
  <dc:creator> </dc:creator>
  <dc:description/>
  <dc:language>en-US</dc:language>
  <cp:lastModifiedBy>Julien Jomier</cp:lastModifiedBy>
  <dcterms:modified xsi:type="dcterms:W3CDTF">2008-06-20T22:15:07Z</dcterms:modified>
  <cp:revision>286</cp:revision>
  <dc:subject/>
  <dc:title>PowerPoint Presentation</dc:title>
</cp:coreProperties>
</file>